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2149560" y="691920"/>
            <a:ext cx="255888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881520" y="0"/>
            <a:ext cx="2976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1520" y="8683560"/>
            <a:ext cx="2976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b">
            <a:noAutofit/>
          </a:bodyPr>
          <a:p>
            <a:pPr algn="r">
              <a:tabLst>
                <a:tab algn="l" pos="0"/>
                <a:tab algn="l" pos="1190520"/>
                <a:tab algn="l" pos="2381400"/>
                <a:tab algn="l" pos="3571920"/>
                <a:tab algn="l" pos="4762440"/>
                <a:tab algn="l" pos="5952960"/>
                <a:tab algn="l" pos="7143840"/>
                <a:tab algn="l" pos="8334360"/>
                <a:tab algn="l" pos="9524880"/>
                <a:tab algn="l" pos="1071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8683560"/>
            <a:ext cx="2976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6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2147760" y="692280"/>
            <a:ext cx="2562480" cy="341604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86400" y="82296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533520"/>
          <a:ext cx="6477120" cy="76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6477120" cy="76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514440" y="812880"/>
            <a:ext cx="5829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 NEEDED SUPPLIES R 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1 SOUTH STREE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HMOND HILL, GEORGIA 313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50840" y="1515960"/>
            <a:ext cx="2315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NTRACT NUMBER: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ABT15-**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7600" y="1897200"/>
            <a:ext cx="5099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            ACCOUNT NUMBER                DATE  BILLED                              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9040" y="419040"/>
            <a:ext cx="6019920" cy="8382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95360" y="211464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652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242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5440" y="2125800"/>
            <a:ext cx="5120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266                                    111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 JULY *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360" y="184788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57160" y="2762280"/>
            <a:ext cx="194328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676680" y="2762280"/>
            <a:ext cx="194292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83800" y="2811600"/>
            <a:ext cx="1585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 O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PORTATION DI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06560" y="2811600"/>
            <a:ext cx="185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20200" y="2430360"/>
            <a:ext cx="611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HIP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34800" y="2430360"/>
            <a:ext cx="61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LL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2960" y="3954600"/>
            <a:ext cx="2023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SPECIAL INSTRUCTIONS :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BILLING PERIOD: 1-31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ORDER:  3073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97560" y="5943600"/>
            <a:ext cx="48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8240" y="6483240"/>
            <a:ext cx="1739880" cy="749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26720" y="6595920"/>
            <a:ext cx="1353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JUL 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11080" y="4944960"/>
            <a:ext cx="43693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Q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XLE-REAR, 2 1/2 TON        14            23.5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$ 329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XLE-FRONT, 2 1/2 TON      12           19.75                         $ 2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       $ 56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7440" y="7916760"/>
            <a:ext cx="177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L NUMBER: 0568  19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BT15-**-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33360" y="883620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25840" y="8083440"/>
            <a:ext cx="17398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90960" y="8280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"/>
          <p:cNvGraphicFramePr/>
          <p:nvPr/>
        </p:nvGraphicFramePr>
        <p:xfrm>
          <a:off x="0" y="385920"/>
          <a:ext cx="6858000" cy="83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5920"/>
                    <a:ext cx="6858000" cy="83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"/>
          <p:cNvGraphicFramePr/>
          <p:nvPr/>
        </p:nvGraphicFramePr>
        <p:xfrm>
          <a:off x="0" y="461880"/>
          <a:ext cx="6858000" cy="822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1880"/>
                    <a:ext cx="6858000" cy="822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0" y="385920"/>
          <a:ext cx="6858000" cy="83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5920"/>
                    <a:ext cx="6858000" cy="83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0" y="385920"/>
          <a:ext cx="6858000" cy="83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5920"/>
                    <a:ext cx="6858000" cy="83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33720" y="81000"/>
            <a:ext cx="1263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6320" y="309600"/>
            <a:ext cx="60397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TR NUMBER               TICKETING PERIOD                                                                   REQUEST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5171232                      1-30 JUNE **                                                                          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CARLSON  WAGONLIT       FROM(Authorized T.O. Representative,Ext,Date,Initia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        U. B. BRANCH, 2222, 10 JUNE ** U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QUESTED BY: (Name,Ext)        ROUTED BY: (Name, Ext)  RESERVATION BY: (Name,Date)    NO. P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B. BRANCH, 2222                   J.P. PETTY, 1010                   I.M. SHORT 15 JUN **                       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AME OF TRAVELER          ORIGN                            CONTACT#        ORDER NUMBER, HEADQUARTERS,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RRY, SANDERS                 FT STEWART         5645                012-00123 1/91 INF, Fort Stewart, 10 JUNE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HAEL, JORDAN               FT STEWART          6742                012-00124  “    “          “      “               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5040" y="3441600"/>
            <a:ext cx="21045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YETTE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5440" y="5338800"/>
            <a:ext cx="290196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PECIAL ACCOMMODATION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ARGEABLE FU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1-401 1431-21P3   S99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MARKS - TYPE/CATEGORY OF TR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  P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S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42480" y="5262480"/>
            <a:ext cx="22492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ICKET #     FARE       TAX   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1         $291.55       -0-      $291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         $291.55       -0-      $291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TO REP: ISSUE DATE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Initials)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S   10 JUNE**            $583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2760" y="311040"/>
            <a:ext cx="5930640" cy="67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1600" y="6858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1600" y="11430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70020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71600" y="16765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1600" y="18288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1600" y="218124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1600" y="25146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00" y="28195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71600" y="312408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5760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008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10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600" y="3429000"/>
            <a:ext cx="26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3443400"/>
            <a:ext cx="0" cy="18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45680" y="5257800"/>
            <a:ext cx="26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57400" y="376704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52360" y="393372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7680" y="40863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57400" y="433872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6760" y="451944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62080" y="465768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57400" y="493884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66760" y="510552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720" y="868824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311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95680" y="311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5257800"/>
            <a:ext cx="250200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8000" y="7089840"/>
            <a:ext cx="1946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 Form 4556 (Computer Generat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033720" y="81000"/>
            <a:ext cx="1263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9200" y="309600"/>
            <a:ext cx="572724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TR NUMBER               TICKETING PERIOD                                                                   REQUEST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5171232                       1-30 JUNE **                                                                            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CARLSON  WAGONLIT       FROM(Authorized T.O. Representative,Ext,Date,Initia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        U. B. BRANCH ,2222 10 JUNE 19** U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QUESTED BY: (Name,Ext)        ROUTED BY: (Name, Ext)  RESERVATION BY: (Name,Date)    NO. P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B. BRANCH, 2222                   J.P. PETTY, 1010                   I.M. SHORT 15 JUN **                      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AME OF TRAVELER          ORIGN                  CONTACT#             ORDER NUMBER, HEADQUARTERS,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YNMANN, MARTY          FT STEWART          4321                06-005 1/91 INF, Fort Stewart, 8 JUNE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5760" y="3441600"/>
            <a:ext cx="19522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VANNAH, G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8240" y="5338800"/>
            <a:ext cx="307692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PECIAL ACCOMMODATION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ARGEABLE FU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-21T1 WYN2211TT0600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JHF S0907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MARKS - TYPE/CATEGORY OF TR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D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25720" y="5443560"/>
            <a:ext cx="228312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ICKET #        FARE       TAX    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                 $410.00      -0-      $4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TO REP: ISSUE DATE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Initials)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S   18 JUNE**           $4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3040" y="311040"/>
            <a:ext cx="5931000" cy="67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1600" y="6858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1600" y="11430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057400" y="70020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1600" y="16765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1600" y="18288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1600" y="218124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1600" y="25146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1600" y="28195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1600" y="312408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13372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65760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5796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810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954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1600" y="3429000"/>
            <a:ext cx="26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3443400"/>
            <a:ext cx="0" cy="18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57400" y="376704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52360" y="393372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47680" y="40863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57400" y="433872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66760" y="451944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65768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57400" y="493884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66760" y="510552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0932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23880" y="311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740040" y="5264280"/>
            <a:ext cx="250200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91120" y="311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50720" y="5257800"/>
            <a:ext cx="267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000" y="7089840"/>
            <a:ext cx="1946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 Form 4556 (Computer Generat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033720" y="81000"/>
            <a:ext cx="1263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7760" y="309600"/>
            <a:ext cx="573192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TR NUMBER               TICKETING PERIOD                                                                   REQUEST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5171232                         1-30 JUNE **                                                                           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CARLSON  WAGONLIT       FROM(Authorized T.O. Representative,Ext,Date,Initia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        U. B. BRANCH, 2222 10 JUNE 19** U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QUESTED BY: (Name,Ext)        ROUTED BY: (Name, Ext)  RESERVATION BY: (Name,Date)    NO. P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B. BRANCH, 2222                   J.P. PETTY, 1010                   I.M. SHORT 15 JUN **                       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AME OF TRAVELER          ORIGN                  CONTACT#              ORDER NUMBER, HEADQUARTERS,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DMAN, SCOTTY           FT STEWART          3433                06-006 1/91 INF, Fort Stewart, 12 JUNE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5760" y="3441600"/>
            <a:ext cx="205596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POLIS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VANNAH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TURN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7520" y="5338800"/>
            <a:ext cx="30420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PECIAL ACCOMMODATION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ARGEABLE FU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-21T1 ROD1911TT06006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JHF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0907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MARKS - TYPE/CATEGORY OF TR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D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68840" y="5367240"/>
            <a:ext cx="228312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ICKET #        FARE       TAX    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04             $398.17        -0-      $398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TO REP: ISSUE DATE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Initials)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S   18 JUNE**           $398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2760" y="311040"/>
            <a:ext cx="5930640" cy="67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1600" y="6858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1600" y="11430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57400" y="70020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1600" y="16765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1600" y="18288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1600" y="218124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71600" y="251460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1600" y="28195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1600" y="312408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13372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5760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57960" y="11574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9810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8954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09880" y="1690560"/>
            <a:ext cx="0" cy="14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1600" y="3429000"/>
            <a:ext cx="26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24080" y="3443400"/>
            <a:ext cx="0" cy="18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5680" y="5257800"/>
            <a:ext cx="26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57400" y="376704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2360" y="393372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47680" y="40863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57400" y="433872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66760" y="451944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62080" y="465768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57400" y="493884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6760" y="510552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3300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311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43400" y="311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40040" y="5235480"/>
            <a:ext cx="242568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8000" y="7089840"/>
            <a:ext cx="1946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 Form 4556 (Computer Generat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0" y="309600"/>
          <a:ext cx="6858000" cy="85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9600"/>
                    <a:ext cx="6858000" cy="85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0" y="384120"/>
          <a:ext cx="6858000" cy="83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6858000" cy="83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66800" y="990720"/>
          <a:ext cx="59976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90720"/>
                    <a:ext cx="59976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5248080" cy="72104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817200" y="1579680"/>
            <a:ext cx="474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YNMANN, MARTY 111-11-2211                   Director, Resource Management, GS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10000" y="1884240"/>
            <a:ext cx="5152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                                1/91st MECH INF                    DSN: 626-34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66600" y="2265480"/>
            <a:ext cx="200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DY                            SECR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4880" y="2201760"/>
            <a:ext cx="234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tend seminar on model computer system f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ource Management. 22-2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C: MAJ Beausly DSN: 626-43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9520" y="3124080"/>
            <a:ext cx="1859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: Fort Stewart, Geor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: DFAS-DENVER, Color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URN: Fort Stewart, Geor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66720" y="4119480"/>
            <a:ext cx="26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06480" y="4640400"/>
            <a:ext cx="236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57880" y="5072040"/>
            <a:ext cx="4893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52.00                     410.00                         100.00                       962.00                         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84880" y="5402160"/>
            <a:ext cx="5056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 facilities will be used to the fullest extent possible. If government facilities are not availabl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traveler must obtain a Statement of Non-Availability from the Billeting Office. Traveler will submi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ne copy of paid travel voucher to Budget office upon receip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04960" y="6597720"/>
            <a:ext cx="4927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RY DAVIS, LTC, IN, XO, 1/91st MECH INF                                 MIKE JOHNSON, COL, IN, Commander 1/91st MECH IN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41440" y="6416640"/>
            <a:ext cx="79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TERRY DAV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38040" y="6416640"/>
            <a:ext cx="928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MIKE JOHN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06320" y="6853320"/>
            <a:ext cx="389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76-9505 111011.00-21T1 WYN2211TT06005/MJHF S09076 $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T2                                                            $55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03280" y="7213680"/>
            <a:ext cx="183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Frederick Ad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DERICK ADAMS, Budget Analy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7480" y="7699320"/>
            <a:ext cx="2719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KE JOHNSON, COL, IN, Commander, 1/91st MECH I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58680" y="7502400"/>
            <a:ext cx="827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Mike John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86680" y="7539120"/>
            <a:ext cx="599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 JUNE  *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29520" y="7746840"/>
            <a:ext cx="47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-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80880" y="266400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70880" y="2664000"/>
            <a:ext cx="76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33000" y="868356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66360" y="1060560"/>
            <a:ext cx="67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248080" cy="705816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821880" y="1719360"/>
            <a:ext cx="3939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DMAN, SCOTTY             911-91-1911        Quality Assurance , GS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16120" y="2062080"/>
            <a:ext cx="518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                                1/91st MECH INF                     DSN: 626-34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73080" y="2414520"/>
            <a:ext cx="190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DY                               SECR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11360" y="2284560"/>
            <a:ext cx="243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tend seminar on quality assurance compli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-2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C: M R ALLCLEAR DSN: 626-22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25840" y="3187800"/>
            <a:ext cx="2124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: Fort Stewart, Geor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: DFAS-INDIANAPOLIS, Indi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URN: Fort Stewart, Geor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85800" y="4189320"/>
            <a:ext cx="26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01800" y="4722840"/>
            <a:ext cx="236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64000" y="5129280"/>
            <a:ext cx="4893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72.00                     398.17                         100.00                       870.17                         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91360" y="5408640"/>
            <a:ext cx="5056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 facilities will be used to the fullest extent possible. If government facilities are not availabl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traveler must obtain a Statement of Non-Availability from the Billeting Office. Traveler wi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mit one copy of paid travel voucher to the Budget office upon receip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02800" y="6629400"/>
            <a:ext cx="5195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RRY DAVIS, LTC, IN, XO, 1/91st MECH INF                MIKE JOHNSON, COL, IN, Commander 1/91st MECH I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47560" y="6423120"/>
            <a:ext cx="79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TERRY DAV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44520" y="6423120"/>
            <a:ext cx="928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MIKE JOHN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76080" y="6892920"/>
            <a:ext cx="3871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76-9505 111011.00-21T1 ROD1911TT06006/MJHF S09076 $398.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T2                                                          $47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09400" y="7219800"/>
            <a:ext cx="183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Frederick Ad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DERICK ADAMS, Budget Analy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3960" y="7705800"/>
            <a:ext cx="2719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KE JOHNSON, COL, IN, Commander, 1/91st MECH I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64800" y="7508880"/>
            <a:ext cx="827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Handwriting"/>
              </a:rPr>
              <a:t>Mike John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93160" y="7545240"/>
            <a:ext cx="643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JUNE  *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97840" y="7753320"/>
            <a:ext cx="47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6-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20400" y="286848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94560" y="2863800"/>
            <a:ext cx="76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3300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90040" y="1212840"/>
            <a:ext cx="67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15880" y="182520"/>
            <a:ext cx="26290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BLIC VOUC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RANSPORTATIO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75840" y="507960"/>
            <a:ext cx="37566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EPARTMENT  OR AGENCY, BUREAU, OR SERVICE AND LOCATION SHOWN ON SUBVOUCH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37760" y="184320"/>
            <a:ext cx="10134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D. O. VOUCHER 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UR. VOU 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CHED. 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29840" y="1197000"/>
            <a:ext cx="60840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HE UNITED STATES, DR., TO (Payee name and address)                     CARRIER’S BILL NUMBER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 P BUS COMPANY                                                             0001                                                23rd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O. BOX  1211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RIER'S SCAC NUMBER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418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ES FURNISHED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EIGHT         PASSENGER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DSN: 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7840" y="2190600"/>
            <a:ext cx="29138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QUEST N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R5171232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$1,391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# TICKET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4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# SERV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  3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ILLING PERIOD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1-30 JUNE  *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482000" y="2151000"/>
            <a:ext cx="1389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AYEE CERTIFIC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330360" y="2390760"/>
            <a:ext cx="32220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 certify the the account stated hereon, as evidenced by the attach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vouchers, is correct and just: that services have been rendered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ckets furnished as indicated: that payment  has not been received: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at the charges are not in excess of those applicable thereto under (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riffs lawfully on file with any Federal or State transportation regula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gency or (2) rates and charges established pursuant to section 22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Interstate Commerce Act, as amended, or other equival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ract, arrangement, or exemption from regul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707720" y="3575160"/>
            <a:ext cx="128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: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1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71080" y="3956040"/>
            <a:ext cx="213372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YE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THE BU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ER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I. M. SHORT    /S/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 REPRESENTATIVE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29640" y="4881600"/>
            <a:ext cx="2955240" cy="18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IFFERENCES                                      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MOUNT VERIFIED CORRECT FO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$1,391.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ERIFIE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Sign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r Initials)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85600" y="7010280"/>
            <a:ext cx="2766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OTAL CLAIME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$1,391.27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566160" y="6880320"/>
            <a:ext cx="79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HECK NO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7360" y="82440"/>
            <a:ext cx="6159600" cy="715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7800" y="6553080"/>
            <a:ext cx="191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YMENT DUE DAT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1 AUG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96840" y="3581280"/>
            <a:ext cx="2121120" cy="9781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7840" y="3790800"/>
            <a:ext cx="1091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CEIV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8240" y="5022720"/>
            <a:ext cx="2273400" cy="1054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400400" y="5286240"/>
            <a:ext cx="1225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CEIVED IN OPLO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800" y="1219320"/>
            <a:ext cx="615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24280" y="8424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732200" y="533520"/>
            <a:ext cx="181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32200" y="838080"/>
            <a:ext cx="181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76720" y="12272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800" y="2133720"/>
            <a:ext cx="28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84640" y="21337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76720" y="2141640"/>
            <a:ext cx="0" cy="509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84640" y="48769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84640" y="51055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84640" y="53341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84640" y="55627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84640" y="60199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800" y="6858000"/>
            <a:ext cx="615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84640" y="160020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122724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81480" y="160812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5668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7360" y="52056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84640" y="579132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62720" y="48830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191120" y="60260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11280" y="7337520"/>
            <a:ext cx="46987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ING SUMMARIZA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10 01-401 1431-21P3 S99999                     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$583.10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OTAL   $583.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 111011.00-21T1 WYN2211TT06005/MJHF  S09076          $4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 111011.00-21T1 ROD1911TT06006/MJHF   S09076          $398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OTAL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$808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 TOTAL:   $1,391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219320" y="304920"/>
            <a:ext cx="4190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ELL OIL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O. BOX 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LSA, OK 74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2320" y="1373040"/>
            <a:ext cx="669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63160" y="1297080"/>
            <a:ext cx="1365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93040" y="1814400"/>
            <a:ext cx="130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OICE 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8153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27880" y="2424240"/>
            <a:ext cx="1435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A600-**-D-0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65600" y="1042920"/>
            <a:ext cx="1557360" cy="19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89360" y="232416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89360" y="1714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380880" y="1752480"/>
            <a:ext cx="2251440" cy="838440"/>
            <a:chOff x="380880" y="1752480"/>
            <a:chExt cx="2251440" cy="838440"/>
          </a:xfrm>
        </p:grpSpPr>
        <p:sp>
          <p:nvSpPr>
            <p:cNvPr id="893" name=""/>
            <p:cNvSpPr/>
            <p:nvPr/>
          </p:nvSpPr>
          <p:spPr>
            <a:xfrm>
              <a:off x="445320" y="1814400"/>
              <a:ext cx="21870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PARTMENT OF THE ARM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IRECTOR OF LOGIST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TTN: TRANSPORTATION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0880" y="1752480"/>
              <a:ext cx="221004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380160" y="2820960"/>
            <a:ext cx="162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Period: 1-31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3352680"/>
            <a:ext cx="6324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   TYPE-FUEL   INV #   GROSS         FUEL      FEDERAL       SALES/LOCAL    NET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MOUNT    GAL        TAX                           TA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04920" y="3657600"/>
            <a:ext cx="63244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920" y="6553080"/>
            <a:ext cx="6324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14400" y="3368520"/>
            <a:ext cx="0" cy="317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752480" y="3368520"/>
            <a:ext cx="0" cy="317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86000" y="3368520"/>
            <a:ext cx="0" cy="362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71800" y="3368520"/>
            <a:ext cx="0" cy="362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05320" y="3368520"/>
            <a:ext cx="0" cy="362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343400" y="3368520"/>
            <a:ext cx="0" cy="362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86400" y="3368520"/>
            <a:ext cx="0" cy="362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52480" y="6568920"/>
            <a:ext cx="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65040" y="3719520"/>
            <a:ext cx="608400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           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49.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60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6.18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2.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40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           DIES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9.7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36.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-0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.0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8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            DIES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72.6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86.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-0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-0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72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           GA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69.48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84.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7.1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4.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58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           DIES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08.9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8.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-0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6.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0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            GAS                  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19.7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5.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6.3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-0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03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371600"/>
                <a:tab algn="l" pos="2006640"/>
                <a:tab algn="l" pos="2627280"/>
                <a:tab algn="l" pos="32036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738080" y="6615000"/>
            <a:ext cx="245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69800" y="661500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450.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56320" y="661500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65440" y="661500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29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03880" y="661500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622840" y="661500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406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880" y="7467480"/>
            <a:ext cx="2210040" cy="914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D IN OPLO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962520" y="7467480"/>
            <a:ext cx="2361960" cy="1219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D IN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3300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68120" y="4433760"/>
            <a:ext cx="3200400" cy="180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06760" y="4462560"/>
            <a:ext cx="6858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4440" y="4668840"/>
            <a:ext cx="83808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58840" y="4660920"/>
            <a:ext cx="4572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82720" y="4645080"/>
            <a:ext cx="38124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63520" y="4894200"/>
            <a:ext cx="9144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35160" y="4902120"/>
            <a:ext cx="53316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5600" y="5040360"/>
            <a:ext cx="12268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301840" y="4983120"/>
            <a:ext cx="60948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01840" y="5351400"/>
            <a:ext cx="76212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5320" y="5661000"/>
            <a:ext cx="2286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39920" y="5673600"/>
            <a:ext cx="152280" cy="1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6680" y="57754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49560" y="57754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2560" y="5867280"/>
            <a:ext cx="76212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4320" y="604980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606760" y="6066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96920" y="6066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92360" y="6066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35160" y="6066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7960" y="6066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68120" y="444600"/>
            <a:ext cx="3200400" cy="1809720"/>
            <a:chOff x="168120" y="444600"/>
            <a:chExt cx="3200400" cy="1809720"/>
          </a:xfrm>
        </p:grpSpPr>
        <p:sp>
          <p:nvSpPr>
            <p:cNvPr id="939" name=""/>
            <p:cNvSpPr/>
            <p:nvPr/>
          </p:nvSpPr>
          <p:spPr>
            <a:xfrm>
              <a:off x="168120" y="444600"/>
              <a:ext cx="3200400" cy="1809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06760" y="473040"/>
              <a:ext cx="685800" cy="1303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40" y="679320"/>
              <a:ext cx="83808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158840" y="671400"/>
              <a:ext cx="45720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82720" y="655560"/>
              <a:ext cx="381240" cy="128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3520" y="905040"/>
              <a:ext cx="914400" cy="129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235160" y="912960"/>
              <a:ext cx="533160" cy="129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5600" y="1050840"/>
              <a:ext cx="1226880" cy="515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01840" y="993600"/>
              <a:ext cx="60948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01840" y="1362240"/>
              <a:ext cx="76212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339920" y="1684440"/>
              <a:ext cx="152280" cy="128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06680" y="1785960"/>
              <a:ext cx="380880" cy="128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49560" y="1785960"/>
              <a:ext cx="380880" cy="128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2560" y="1878120"/>
              <a:ext cx="762120" cy="129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4320" y="2060640"/>
              <a:ext cx="31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06760" y="207648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996920" y="207648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692360" y="207648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235160" y="207648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7960" y="207648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168120" y="2425680"/>
            <a:ext cx="3200400" cy="180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06760" y="2454120"/>
            <a:ext cx="6858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4440" y="2660760"/>
            <a:ext cx="83808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158840" y="2652840"/>
            <a:ext cx="4572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82720" y="2637000"/>
            <a:ext cx="38124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63520" y="2886120"/>
            <a:ext cx="9144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35160" y="2894040"/>
            <a:ext cx="53316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5600" y="3032280"/>
            <a:ext cx="12268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01840" y="2975040"/>
            <a:ext cx="60948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01840" y="3343320"/>
            <a:ext cx="76212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25320" y="3652920"/>
            <a:ext cx="2286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39920" y="3665520"/>
            <a:ext cx="1522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49560" y="376704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2560" y="3859200"/>
            <a:ext cx="76212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4320" y="404172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06760" y="40575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96920" y="40575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92360" y="40575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35160" y="40575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77960" y="40575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21160" y="444600"/>
            <a:ext cx="3200400" cy="180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959440" y="473040"/>
            <a:ext cx="6858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97120" y="679320"/>
            <a:ext cx="83844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11520" y="671400"/>
            <a:ext cx="4572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35760" y="65556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87840" y="912960"/>
            <a:ext cx="53352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78280" y="1050840"/>
            <a:ext cx="122724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54520" y="993600"/>
            <a:ext cx="60984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654520" y="1362240"/>
            <a:ext cx="76212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692600" y="1684440"/>
            <a:ext cx="1522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9360" y="178596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502240" y="178596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35600" y="1878120"/>
            <a:ext cx="76176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537000" y="206064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959440" y="20764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49960" y="20764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45040" y="20764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87840" y="20764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0640" y="207648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521160" y="2425680"/>
            <a:ext cx="3200400" cy="1809720"/>
            <a:chOff x="3521160" y="2425680"/>
            <a:chExt cx="3200400" cy="1809720"/>
          </a:xfrm>
        </p:grpSpPr>
        <p:sp>
          <p:nvSpPr>
            <p:cNvPr id="999" name=""/>
            <p:cNvSpPr/>
            <p:nvPr/>
          </p:nvSpPr>
          <p:spPr>
            <a:xfrm>
              <a:off x="3521160" y="2425680"/>
              <a:ext cx="3200400" cy="1809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959440" y="2454120"/>
              <a:ext cx="685800" cy="1303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97120" y="2660760"/>
              <a:ext cx="83844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11520" y="2652840"/>
              <a:ext cx="45720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16200" y="2886120"/>
              <a:ext cx="914400" cy="129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87840" y="2894040"/>
              <a:ext cx="533520" cy="1303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78280" y="3032280"/>
              <a:ext cx="1227240" cy="515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54520" y="2975040"/>
              <a:ext cx="60984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54520" y="3343320"/>
              <a:ext cx="762120" cy="1936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92600" y="3665520"/>
              <a:ext cx="152280" cy="128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959360" y="3767040"/>
              <a:ext cx="380880" cy="128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35600" y="3859200"/>
              <a:ext cx="761760" cy="1303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537000" y="4041720"/>
              <a:ext cx="31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59440" y="405756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49960" y="405756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45040" y="405756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87840" y="405756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30640" y="405756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168120" y="6464160"/>
            <a:ext cx="3200400" cy="180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06760" y="6492960"/>
            <a:ext cx="6858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4440" y="6699240"/>
            <a:ext cx="83808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58840" y="6691320"/>
            <a:ext cx="4572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682720" y="6675480"/>
            <a:ext cx="38124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3520" y="6924600"/>
            <a:ext cx="9144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35160" y="6932520"/>
            <a:ext cx="53316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600" y="7070760"/>
            <a:ext cx="12268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01840" y="7013520"/>
            <a:ext cx="60948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01840" y="7381800"/>
            <a:ext cx="76212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25320" y="7691400"/>
            <a:ext cx="2286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39920" y="7704000"/>
            <a:ext cx="152280" cy="1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06680" y="78058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149560" y="78058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2560" y="7897680"/>
            <a:ext cx="76212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84320" y="808020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0676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99692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9236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23516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7796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21160" y="6464160"/>
            <a:ext cx="3200400" cy="180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959440" y="6492960"/>
            <a:ext cx="6858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97120" y="6699240"/>
            <a:ext cx="83844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11520" y="6691320"/>
            <a:ext cx="4572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035760" y="66754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616200" y="6924600"/>
            <a:ext cx="9144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87840" y="6932520"/>
            <a:ext cx="53352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78280" y="7070760"/>
            <a:ext cx="122724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654520" y="7013520"/>
            <a:ext cx="60984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54520" y="7381800"/>
            <a:ext cx="76212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92600" y="7704000"/>
            <a:ext cx="152280" cy="1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959360" y="78058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502240" y="78058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035600" y="7897680"/>
            <a:ext cx="76176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37000" y="808020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5944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996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04504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58784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30640" y="80964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21160" y="4406760"/>
            <a:ext cx="3200400" cy="180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59440" y="4435560"/>
            <a:ext cx="6858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97120" y="4641840"/>
            <a:ext cx="83844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11520" y="4633920"/>
            <a:ext cx="4572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35760" y="46180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616200" y="4867200"/>
            <a:ext cx="9144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87840" y="4875120"/>
            <a:ext cx="53352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78280" y="5013360"/>
            <a:ext cx="122724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54520" y="4956120"/>
            <a:ext cx="60984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54520" y="5324400"/>
            <a:ext cx="76212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92600" y="5646600"/>
            <a:ext cx="152280" cy="1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959360" y="57484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02240" y="574848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035600" y="5840280"/>
            <a:ext cx="76176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37000" y="602280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59440" y="6039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349960" y="6039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45040" y="6039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7840" y="6039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130640" y="603900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0932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44440" y="44460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2960" y="43164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5360" y="682560"/>
            <a:ext cx="876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937765552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42280" y="68256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02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666880" y="62532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150640" y="53964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9680" y="876240"/>
            <a:ext cx="960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AR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19680" y="876240"/>
            <a:ext cx="43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5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5340000">
            <a:off x="46800" y="127476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4240" y="1020600"/>
            <a:ext cx="98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EWIS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LUMBIA, S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7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85640" y="992160"/>
            <a:ext cx="553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157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074680" y="118440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29480" y="1357200"/>
            <a:ext cx="945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Dennis Rod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06360" y="162864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25320" y="1671480"/>
            <a:ext cx="2286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39880" y="162864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599840" y="162864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25160" y="153828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4080" y="183672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7600" y="2058840"/>
            <a:ext cx="2883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 R9982    STATE      GA    AUTH        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97120" y="44460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256000" y="43164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4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78760" y="682560"/>
            <a:ext cx="81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61884498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94960" y="68256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22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19560" y="62532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03320" y="53964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580920" y="876240"/>
            <a:ext cx="103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616200" y="905040"/>
            <a:ext cx="9144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72720" y="876240"/>
            <a:ext cx="449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L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5340000">
            <a:off x="3410640" y="126360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86560" y="1020600"/>
            <a:ext cx="1056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ARHAM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VANNAH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63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638680" y="992160"/>
            <a:ext cx="553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993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7360" y="118440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92600" y="1357200"/>
            <a:ext cx="8946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Michael Jor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659040" y="162864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978360" y="1671480"/>
            <a:ext cx="2286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192560" y="162864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52880" y="162864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78200" y="153828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506760" y="183672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499920" y="2058840"/>
            <a:ext cx="2782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 S9702     STATE      GA    AUTH         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97120" y="242568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56000" y="241308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24.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78760" y="2664000"/>
            <a:ext cx="81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299800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94960" y="266400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12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560" y="260676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035760" y="263700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503320" y="25210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2360" y="2857680"/>
            <a:ext cx="960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AR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360" y="2857680"/>
            <a:ext cx="43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5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340000">
            <a:off x="3410640" y="324468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86920" y="3002040"/>
            <a:ext cx="1138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LLIVAN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AXTON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6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320" y="2973240"/>
            <a:ext cx="547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937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427360" y="316548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595840" y="3338640"/>
            <a:ext cx="896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Shaquille O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659040" y="361008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78360" y="3652920"/>
            <a:ext cx="228600" cy="12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92560" y="361008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952880" y="361008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8200" y="351936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502240" y="376704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06760" y="381780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99920" y="4040280"/>
            <a:ext cx="2912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 R9234    STATE      GA    AUTH         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32600" y="174456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127240" y="1741320"/>
            <a:ext cx="384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48640" y="1741320"/>
            <a:ext cx="81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0             .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33800" y="3732120"/>
            <a:ext cx="934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8.8              .8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44440" y="242568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02600" y="2413080"/>
            <a:ext cx="1293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108.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5720" y="2664000"/>
            <a:ext cx="81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6501300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142280" y="266400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05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666880" y="260676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50640" y="25210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7880" y="2857680"/>
            <a:ext cx="103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20040" y="2857680"/>
            <a:ext cx="449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L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5340000">
            <a:off x="57600" y="324468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34600" y="3002040"/>
            <a:ext cx="1121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IBERT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LENNVILLE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2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85640" y="2973240"/>
            <a:ext cx="553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6215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074680" y="317808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40640" y="3338640"/>
            <a:ext cx="833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Scotty P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6360" y="361008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39880" y="361008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99840" y="361008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25160" y="351936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606680" y="3767040"/>
            <a:ext cx="380880" cy="12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4080" y="381780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47600" y="4040280"/>
            <a:ext cx="2772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 A7891    STATE      GA    AUTH         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290600" y="36194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80400" y="3722760"/>
            <a:ext cx="96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8.2             .8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44440" y="443376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902960" y="442116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72.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25720" y="4672080"/>
            <a:ext cx="81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657729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142280" y="467208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20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666880" y="461484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50640" y="452916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9680" y="4865760"/>
            <a:ext cx="960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AR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19680" y="4865760"/>
            <a:ext cx="43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5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5340000">
            <a:off x="59400" y="525132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34240" y="5010120"/>
            <a:ext cx="121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DAMS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ACKSONVILLE, F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9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85640" y="4981680"/>
            <a:ext cx="553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7875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074680" y="516096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42440" y="5346720"/>
            <a:ext cx="73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Ron Har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6360" y="561816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9880" y="561816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599840" y="561816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225160" y="552780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4080" y="582624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47240" y="6048360"/>
            <a:ext cx="2877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 T9342    STATE      GA    AUTH        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300320" y="5611680"/>
            <a:ext cx="26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1040" y="5818320"/>
            <a:ext cx="576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E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657440" y="5738760"/>
            <a:ext cx="847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6            .8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97120" y="440676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256000" y="439416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49.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78760" y="4645080"/>
            <a:ext cx="81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245678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94960" y="464508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16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19560" y="458784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03320" y="450216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2360" y="4838760"/>
            <a:ext cx="960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AR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572360" y="4838760"/>
            <a:ext cx="43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5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5340000">
            <a:off x="3412080" y="522432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86920" y="4983120"/>
            <a:ext cx="1258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HLENDORF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RMINGHAM, 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91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37960" y="4954680"/>
            <a:ext cx="573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175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427360" y="514656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15640" y="5319720"/>
            <a:ext cx="63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Grant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659040" y="559116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78360" y="5634000"/>
            <a:ext cx="2286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192560" y="559116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952880" y="559116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78200" y="550080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6760" y="579924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00280" y="6021360"/>
            <a:ext cx="2848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L2340    STATE      GA    AUTH        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933440" y="5703840"/>
            <a:ext cx="96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0.1             82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4440" y="646416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02960" y="645156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29.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25360" y="6702480"/>
            <a:ext cx="876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367870103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142280" y="670248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15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666880" y="664524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150640" y="655956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27880" y="6896160"/>
            <a:ext cx="103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20760" y="6896160"/>
            <a:ext cx="492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JH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5340000">
            <a:off x="59400" y="728172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4600" y="7040520"/>
            <a:ext cx="1086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OHNSON SH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ADSEN, 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60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285280" y="7012080"/>
            <a:ext cx="53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235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74680" y="719136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24080" y="7377120"/>
            <a:ext cx="99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Penny Hardaw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06360" y="764856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9880" y="764856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599840" y="764856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25160" y="755820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4080" y="785664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7600" y="8078760"/>
            <a:ext cx="2743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G4325    STATE      GA    AUTH         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290600" y="7656480"/>
            <a:ext cx="26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80400" y="7751880"/>
            <a:ext cx="96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6.1             .8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71040" y="7846920"/>
            <a:ext cx="576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E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97120" y="6464160"/>
            <a:ext cx="914400" cy="19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56000" y="6451560"/>
            <a:ext cx="1235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OUNT:       $69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579120" y="6702480"/>
            <a:ext cx="76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9818556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494960" y="6702480"/>
            <a:ext cx="52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18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19560" y="6645240"/>
            <a:ext cx="44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/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03320" y="655956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582360" y="6896160"/>
            <a:ext cx="960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AR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572360" y="6896160"/>
            <a:ext cx="43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5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5340000">
            <a:off x="3412080" y="7281720"/>
            <a:ext cx="556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920" y="7040520"/>
            <a:ext cx="105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HODES S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LUMBIA, S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82 SHELL O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638320" y="7012080"/>
            <a:ext cx="547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812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27360" y="7203960"/>
            <a:ext cx="1168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606640" y="7377120"/>
            <a:ext cx="771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ush Script MT"/>
              </a:rPr>
              <a:t>Tim Mcgr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59040" y="7648560"/>
            <a:ext cx="38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978360" y="7691400"/>
            <a:ext cx="228600" cy="1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92560" y="764856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952880" y="7648560"/>
            <a:ext cx="943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QTY      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78200" y="755820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URCHA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506760" y="7856640"/>
            <a:ext cx="562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500280" y="8078760"/>
            <a:ext cx="2889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H. TAG   H6789    STATE      GA    AUTH        US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33800" y="7761240"/>
            <a:ext cx="905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7.5             .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293760" y="1235160"/>
            <a:ext cx="6033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-APC  STATE  GROSS   GAS    DIESEL SALES TAX NE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04920" y="1211400"/>
            <a:ext cx="59436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12840" y="6697800"/>
            <a:ext cx="59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95280" y="1219320"/>
            <a:ext cx="0" cy="54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81080" y="1219320"/>
            <a:ext cx="0" cy="60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66880" y="1219320"/>
            <a:ext cx="0" cy="60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76720" y="1219320"/>
            <a:ext cx="0" cy="60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2520" y="1219320"/>
            <a:ext cx="0" cy="60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91040" y="1219320"/>
            <a:ext cx="0" cy="60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33000" y="890424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1040" y="174456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11040" y="212580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1040" y="25066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1040" y="288756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11040" y="326880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1040" y="36622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040" y="395460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11040" y="43354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1040" y="471636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1040" y="50212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11040" y="532620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1040" y="563076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1040" y="59356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1040" y="631656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510920" y="938160"/>
            <a:ext cx="363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SOLINE CREDIT CARD WORK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1040" y="146700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073160" y="8707320"/>
            <a:ext cx="458136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953080" y="8688240"/>
            <a:ext cx="803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Univers (W1)"/>
              </a:rPr>
              <a:t>PRIVACY ACT STATEME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406520" y="468360"/>
            <a:ext cx="383688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241000" y="509760"/>
            <a:ext cx="224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 (W1)"/>
              </a:rPr>
              <a:t>PUBLIC VOUCHER FOR PURCHASES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400480" y="671400"/>
            <a:ext cx="192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 (W1)"/>
              </a:rPr>
              <a:t>SERVICES OTHER THAN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413320" y="347040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0"/>
                </a:moveTo>
                <a:lnTo>
                  <a:pt x="672" y="0"/>
                </a:lnTo>
                <a:lnTo>
                  <a:pt x="672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357960" y="3467160"/>
            <a:ext cx="2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413320" y="347040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0"/>
                </a:moveTo>
                <a:lnTo>
                  <a:pt x="672" y="0"/>
                </a:lnTo>
                <a:lnTo>
                  <a:pt x="672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282000" y="3467160"/>
            <a:ext cx="2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13320" y="347040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0"/>
                </a:moveTo>
                <a:lnTo>
                  <a:pt x="672" y="0"/>
                </a:lnTo>
                <a:lnTo>
                  <a:pt x="672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310800" y="347508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8040" y="8126280"/>
            <a:ext cx="4248360" cy="5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06360" y="8132760"/>
            <a:ext cx="1731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When stated in foreign currency, insert name of currenc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51200" y="8210520"/>
            <a:ext cx="3690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If the ability to certify and authority to approve are combined in one person, one signature only is necessary; otherwise 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9520" y="8296200"/>
            <a:ext cx="2077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approving officer will sign in the space provided, over his official titl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5880" y="8372520"/>
            <a:ext cx="356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When a voucher is receipted in the name of a company or corporation, the name of the person writing the company 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75680" y="8450280"/>
            <a:ext cx="3687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corporate name, as well as the capacity in which he signs, must appear.  For example: "John Doe Company, per John Smith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4800" y="8526600"/>
            <a:ext cx="1389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Secretary," or "Treasurer," as the case may b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38040" y="468360"/>
            <a:ext cx="105588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07800" y="449280"/>
            <a:ext cx="613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Standard Form 103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1040" y="527040"/>
            <a:ext cx="655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Revised October 198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6200" y="603360"/>
            <a:ext cx="838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Department of the Treasur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39840" y="689040"/>
            <a:ext cx="401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1 TFM 4-20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6600" y="766800"/>
            <a:ext cx="277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1034-12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73160" y="8707320"/>
            <a:ext cx="458136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73640" y="8756640"/>
            <a:ext cx="4065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The information requested on this form is required under the provisions of 31 U.S.C. 82b and 82c, for the purpose of disbursing Fede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61400" y="8825040"/>
            <a:ext cx="4140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money.  The information requested is to identify the particular creditor and the amounts to be paid. Failure to furnish this information wil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71280" y="8893080"/>
            <a:ext cx="1325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hinder discharge of the payment obligatio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8040" y="3613320"/>
            <a:ext cx="80820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8040" y="4981680"/>
            <a:ext cx="50691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21120" y="4987800"/>
            <a:ext cx="1175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(Use continuation sheet(s) if necess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066680" y="19443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183200" y="1967040"/>
            <a:ext cx="163440" cy="145800"/>
          </a:xfrm>
          <a:custGeom>
            <a:avLst/>
            <a:gdLst/>
            <a:ahLst/>
            <a:rect l="l" t="t" r="r" b="b"/>
            <a:pathLst>
              <a:path w="103" h="92">
                <a:moveTo>
                  <a:pt x="0" y="0"/>
                </a:moveTo>
                <a:lnTo>
                  <a:pt x="102" y="0"/>
                </a:lnTo>
                <a:lnTo>
                  <a:pt x="102" y="9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66680" y="2651040"/>
            <a:ext cx="171720" cy="138240"/>
          </a:xfrm>
          <a:custGeom>
            <a:avLst/>
            <a:gdLst/>
            <a:ahLst/>
            <a:rect l="l" t="t" r="r" b="b"/>
            <a:pathLst>
              <a:path w="108" h="87">
                <a:moveTo>
                  <a:pt x="107" y="86"/>
                </a:move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183200" y="2651040"/>
            <a:ext cx="163440" cy="138240"/>
          </a:xfrm>
          <a:custGeom>
            <a:avLst/>
            <a:gdLst/>
            <a:ahLst/>
            <a:rect l="l" t="t" r="r" b="b"/>
            <a:pathLst>
              <a:path w="103" h="87">
                <a:moveTo>
                  <a:pt x="102" y="0"/>
                </a:moveTo>
                <a:lnTo>
                  <a:pt x="102" y="86"/>
                </a:lnTo>
                <a:lnTo>
                  <a:pt x="0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63600" y="1693800"/>
            <a:ext cx="600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31920" y="1693800"/>
            <a:ext cx="658800" cy="1368360"/>
          </a:xfrm>
          <a:custGeom>
            <a:avLst/>
            <a:gdLst/>
            <a:ahLst/>
            <a:rect l="l" t="t" r="r" b="b"/>
            <a:pathLst>
              <a:path w="415" h="862">
                <a:moveTo>
                  <a:pt x="414" y="861"/>
                </a:moveTo>
                <a:lnTo>
                  <a:pt x="0" y="8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9240" y="2141640"/>
            <a:ext cx="34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PAYEE'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5320" y="2244600"/>
            <a:ext cx="26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NA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62680" y="2347920"/>
            <a:ext cx="19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4680" y="244944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ADD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38040" y="3340080"/>
            <a:ext cx="8082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60520" y="332280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1360" y="3416400"/>
            <a:ext cx="37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5320" y="351000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F 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58840" y="3340080"/>
            <a:ext cx="6444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97440" y="332280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294920" y="341640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ELIVE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244160" y="3510000"/>
            <a:ext cx="42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R SERV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16200" y="3340080"/>
            <a:ext cx="2360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47000" y="333216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RTICLES OR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34640" y="3416400"/>
            <a:ext cx="173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Univers (W1)"/>
              </a:rPr>
              <a:t>(Enter description, item number of contract or Federal suppl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079720" y="3510000"/>
            <a:ext cx="1471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Univers (W1)"/>
              </a:rPr>
              <a:t>schedule, and other information deemed necess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89320" y="3340080"/>
            <a:ext cx="3970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248000" y="3355920"/>
            <a:ext cx="24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QUA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298400" y="3459240"/>
            <a:ext cx="15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599000" y="3340080"/>
            <a:ext cx="80820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78640" y="333864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UNIT P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599000" y="3476520"/>
            <a:ext cx="3967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674960" y="3476520"/>
            <a:ext cx="19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O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08680" y="3476520"/>
            <a:ext cx="3985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128920" y="3476520"/>
            <a:ext cx="13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9800" y="334008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60360" y="333864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MOU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38040" y="6622920"/>
            <a:ext cx="613584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802240" y="6621480"/>
            <a:ext cx="111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CCOUNTING 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38040" y="7580160"/>
            <a:ext cx="1494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645880" y="8672400"/>
            <a:ext cx="689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NSN 7540-00-900-223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7000" y="8809200"/>
            <a:ext cx="423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USAPPC V1.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65320" y="8655120"/>
            <a:ext cx="701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Previous edition usabl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84480" y="810720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84480" y="818352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84480" y="834696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758040" y="784224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816200" y="3613320"/>
            <a:ext cx="236052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99000" y="3613320"/>
            <a:ext cx="39672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9800" y="3613320"/>
            <a:ext cx="105408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8040" y="5118120"/>
            <a:ext cx="866880" cy="9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5080" y="5126040"/>
            <a:ext cx="36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YMENT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97240" y="5118120"/>
            <a:ext cx="120996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316760" y="516888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IFFERE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0720" y="4971960"/>
            <a:ext cx="285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98880" y="5118120"/>
            <a:ext cx="5083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97240" y="5802480"/>
            <a:ext cx="227664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187880" y="5792760"/>
            <a:ext cx="71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Signature or initial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197240" y="5391000"/>
            <a:ext cx="12099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97240" y="5527800"/>
            <a:ext cx="1209960" cy="1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97240" y="5665680"/>
            <a:ext cx="12099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197960" y="5654520"/>
            <a:ext cx="992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mount verified; 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99040" y="523728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ROVIS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97240" y="5373720"/>
            <a:ext cx="39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OMPLE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3360" y="551016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RT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98680" y="5646600"/>
            <a:ext cx="21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F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95800" y="5783400"/>
            <a:ext cx="38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ROGR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04800" y="5919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D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38040" y="6075360"/>
            <a:ext cx="6135840" cy="5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91800" y="6056280"/>
            <a:ext cx="343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ursuant to authority vested in me, I certify that this voucher is correct and proper for paymen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217520" y="5118120"/>
            <a:ext cx="167004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248480" y="5108400"/>
            <a:ext cx="55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PPROVE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21320" y="5245200"/>
            <a:ext cx="10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=$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05120" y="5245200"/>
            <a:ext cx="27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=$1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357560" y="538020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62920" y="6459480"/>
            <a:ext cx="20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Dat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902600" y="6459480"/>
            <a:ext cx="1005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Authorized Certifying Offic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30920" y="6459480"/>
            <a:ext cx="18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75480" y="646596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327400" y="4975200"/>
            <a:ext cx="2163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2276640" y="5111640"/>
            <a:ext cx="226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328840" y="4970520"/>
            <a:ext cx="195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(W1)"/>
              </a:rPr>
              <a:t>(Payee must NOT use the space bel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00520" y="5118120"/>
            <a:ext cx="12841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44080" y="510840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EXCHANGE R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419800" y="511812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419800" y="539100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419800" y="525456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419800" y="5527800"/>
            <a:ext cx="1054080" cy="1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217520" y="5391000"/>
            <a:ext cx="296712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247760" y="5381640"/>
            <a:ext cx="93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217520" y="5802480"/>
            <a:ext cx="29671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48840" y="5792760"/>
            <a:ext cx="194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419800" y="566568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419800" y="498168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23720" y="525456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2200" y="52452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23720" y="539100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12200" y="538164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23720" y="552780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2200" y="551808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3720" y="5665680"/>
            <a:ext cx="63720" cy="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23720" y="5802480"/>
            <a:ext cx="63720" cy="7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12200" y="579132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23720" y="593892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12200" y="592776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703160" y="3602160"/>
            <a:ext cx="183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Per detailed bill herewith attach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754640" y="3773520"/>
            <a:ext cx="121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attached dtd </a:t>
            </a:r>
            <a:r>
              <a:rPr b="1" lang="en-US" sz="900" spc="-1" strike="noStrike">
                <a:solidFill>
                  <a:srgbClr val="000000"/>
                </a:solidFill>
                <a:latin typeface="CG Times (W1)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45000" y="3470400"/>
            <a:ext cx="830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168560" y="3611520"/>
            <a:ext cx="59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1-31MAY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158120" y="2021040"/>
            <a:ext cx="1137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SHELL OIL COMPAN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120680" y="2131920"/>
            <a:ext cx="73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P. O. BOX 1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31840" y="2243160"/>
            <a:ext cx="89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TULSA OK 741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256360" y="224640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93440" y="2244600"/>
            <a:ext cx="889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 INVOICE 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540400" y="23288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6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63600" y="3060720"/>
            <a:ext cx="2317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31920" y="3060720"/>
            <a:ext cx="2376360" cy="274680"/>
          </a:xfrm>
          <a:custGeom>
            <a:avLst/>
            <a:gdLst/>
            <a:ahLst/>
            <a:rect l="l" t="t" r="r" b="b"/>
            <a:pathLst>
              <a:path w="1497" h="173">
                <a:moveTo>
                  <a:pt x="1496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3160" y="3075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SHIPPED F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56360" y="1152360"/>
            <a:ext cx="1217520" cy="10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75440" y="115092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Univers (W1)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69680" y="1235160"/>
            <a:ext cx="989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90200" y="1355760"/>
            <a:ext cx="85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53840" y="1467000"/>
            <a:ext cx="51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257440" y="2030400"/>
            <a:ext cx="63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ADSN: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360" y="306720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79760" y="3075120"/>
            <a:ext cx="1001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GOVERNMENT B/L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256360" y="2519280"/>
            <a:ext cx="121752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276520" y="2527200"/>
            <a:ext cx="65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523120" y="2611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256360" y="279396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288040" y="2800440"/>
            <a:ext cx="1006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YEE'S ACCOUNT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724360" y="2884320"/>
            <a:ext cx="2858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1 676 5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720880" y="3060720"/>
            <a:ext cx="177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2669760" y="3333600"/>
            <a:ext cx="1871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09360" y="307512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497480" y="3067200"/>
            <a:ext cx="7459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14040" y="3075120"/>
            <a:ext cx="29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WEIGH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38040" y="879480"/>
            <a:ext cx="2916360" cy="8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84120" y="878040"/>
            <a:ext cx="2346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U.S. DEPARTMENT, BUREAU, OR ESTABLISHMENT AND LO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80880" y="961920"/>
            <a:ext cx="151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2160" y="1081080"/>
            <a:ext cx="1244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3520" y="1192320"/>
            <a:ext cx="139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267000" y="879480"/>
            <a:ext cx="19764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01920" y="878040"/>
            <a:ext cx="963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 VOUCHER PREPAR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17400" y="961920"/>
            <a:ext cx="48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9 JUNE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256360" y="468360"/>
            <a:ext cx="121752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274360" y="468360"/>
            <a:ext cx="51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256360" y="87948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275080" y="878040"/>
            <a:ext cx="54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SCHEDULE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67000" y="1152360"/>
            <a:ext cx="197640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299040" y="115092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ONTRACT NUMBER 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259080" y="1235160"/>
            <a:ext cx="994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DLA600-**-D-017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67000" y="1425600"/>
            <a:ext cx="197640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91120" y="1424160"/>
            <a:ext cx="1221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REQUISITION NUMBER 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267000" y="150804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PRC 63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040" y="6759720"/>
            <a:ext cx="6135840" cy="80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53880" y="6730920"/>
            <a:ext cx="32353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456000" y="7853400"/>
            <a:ext cx="30178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81560" y="7851600"/>
            <a:ext cx="22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25600" y="7574040"/>
            <a:ext cx="1420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93560" y="7574040"/>
            <a:ext cx="1479600" cy="274680"/>
          </a:xfrm>
          <a:custGeom>
            <a:avLst/>
            <a:gdLst/>
            <a:ahLst/>
            <a:rect l="l" t="t" r="r" b="b"/>
            <a:pathLst>
              <a:path w="932" h="173">
                <a:moveTo>
                  <a:pt x="931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24520" y="7578720"/>
            <a:ext cx="58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HECK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481560" y="7574040"/>
            <a:ext cx="1495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449520" y="7574040"/>
            <a:ext cx="1554120" cy="274680"/>
          </a:xfrm>
          <a:custGeom>
            <a:avLst/>
            <a:gdLst/>
            <a:ahLst/>
            <a:rect l="l" t="t" r="r" b="b"/>
            <a:pathLst>
              <a:path w="979" h="173">
                <a:moveTo>
                  <a:pt x="978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479040" y="7578720"/>
            <a:ext cx="58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HECK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5600" y="7846920"/>
            <a:ext cx="1420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93560" y="7846920"/>
            <a:ext cx="1479600" cy="274680"/>
          </a:xfrm>
          <a:custGeom>
            <a:avLst/>
            <a:gdLst/>
            <a:ahLst/>
            <a:rect l="l" t="t" r="r" b="b"/>
            <a:pathLst>
              <a:path w="932" h="173">
                <a:moveTo>
                  <a:pt x="931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20200" y="7843680"/>
            <a:ext cx="19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11920" y="7997760"/>
            <a:ext cx="84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$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986120" y="7580160"/>
            <a:ext cx="145728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07360" y="7578720"/>
            <a:ext cx="1164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N ACCOUNT OF U.S. TREASU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270520" y="766296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FOR $436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983120" y="7580160"/>
            <a:ext cx="149076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985640" y="7578720"/>
            <a:ext cx="13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110560" y="757872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Name of ban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698080" y="7578720"/>
            <a:ext cx="4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986120" y="7853400"/>
            <a:ext cx="14572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998360" y="785160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99000" y="8126280"/>
            <a:ext cx="187488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624200" y="8116920"/>
            <a:ext cx="13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599000" y="8399520"/>
            <a:ext cx="1874880" cy="26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630320" y="8389800"/>
            <a:ext cx="194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74480" y="6478560"/>
            <a:ext cx="10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542600" y="6478560"/>
            <a:ext cx="200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679040" y="6321600"/>
            <a:ext cx="1680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JAMES R  RICHARDSON, LTC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3678120" y="6478560"/>
            <a:ext cx="274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33880" y="6321600"/>
            <a:ext cx="117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38040" y="468360"/>
            <a:ext cx="6135840" cy="819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469120" y="4951440"/>
            <a:ext cx="58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 450.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519880" y="5637240"/>
            <a:ext cx="58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 436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78160" y="5834160"/>
            <a:ext cx="359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69480" y="3575160"/>
            <a:ext cx="558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450.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39760" y="4729320"/>
            <a:ext cx="1587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6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248720" y="5203800"/>
            <a:ext cx="1809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les Tax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$13.9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42800" y="6851520"/>
            <a:ext cx="132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continuation sh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56680" y="893772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073160" y="195264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47400" y="561024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22800" y="306360"/>
            <a:ext cx="3263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BLIC VOUCHER FOR PURCHASE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ICES OTHER THAN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NTINUATION SH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962600" y="200160"/>
            <a:ext cx="1037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CHEDUL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HEET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2880" y="1220760"/>
            <a:ext cx="3563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. S. DEPARTMENT, BUREAU, OR ESTABLISHMENT AND LO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PARTMENT OF THE ARMY, 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1440" y="1830240"/>
            <a:ext cx="5881320" cy="43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UMBER               DATE OF                       ARTICLES OR SERVICES                                                              QUAN       UNIT PRICE         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ATE            DELIVERY                                                                                                                                   TITY        COST   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ORDER             OR SERVICE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20   76-9505           112014.00-26BK  SDN/MJHA S09076                               $ 28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20   76-9505           112014.00-26BK  SDN/DL01 S09076                                $102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20   76-9505           112014.00-26BJ   SDN/DL01 S09076                                 $  42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80   76-9601           512914.00-26BJ   SDN/A502 S09076                                 $  23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80   76-9601           512914.00-26BJ  SDN/A509 S09076                                  $  47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80   76-9601           512914.00-26BJ SDN/A526 S09076                                   $  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80   76-9601           512914.00-26BK SDN/A526 S09076                                  $  72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*2080   76-9601           512914.00-26BJ SDN/A532 S09076                                   $  69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82680" y="230040"/>
            <a:ext cx="5940360" cy="815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4952880" y="217440"/>
            <a:ext cx="0" cy="101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968720" y="45720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968720" y="76212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96720" y="1219320"/>
            <a:ext cx="591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96720" y="1752480"/>
            <a:ext cx="591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066680" y="1768320"/>
            <a:ext cx="0" cy="660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943280" y="1787400"/>
            <a:ext cx="0" cy="660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495680" y="1768320"/>
            <a:ext cx="0" cy="660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952880" y="1787400"/>
            <a:ext cx="0" cy="660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562720" y="1787400"/>
            <a:ext cx="0" cy="660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118600" y="6170760"/>
            <a:ext cx="95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6BJ (GA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6BK(DIES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96720" y="2209680"/>
            <a:ext cx="591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56680" y="883620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9" name=""/>
          <p:cNvGraphicFramePr/>
          <p:nvPr/>
        </p:nvGraphicFramePr>
        <p:xfrm>
          <a:off x="0" y="369720"/>
          <a:ext cx="6858000" cy="840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9720"/>
                    <a:ext cx="6858000" cy="840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1" name=""/>
          <p:cNvGraphicFramePr/>
          <p:nvPr/>
        </p:nvGraphicFramePr>
        <p:xfrm>
          <a:off x="0" y="309600"/>
          <a:ext cx="6858000" cy="85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9600"/>
                    <a:ext cx="6858000" cy="85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14440" y="1106640"/>
          <a:ext cx="5829120" cy="67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106640"/>
                    <a:ext cx="5829120" cy="67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1062000" y="8346960"/>
            <a:ext cx="4597560" cy="274680"/>
          </a:xfrm>
          <a:custGeom>
            <a:avLst/>
            <a:gdLst/>
            <a:ahLst/>
            <a:rect l="l" t="t" r="r" b="b"/>
            <a:pathLst>
              <a:path w="2896" h="173">
                <a:moveTo>
                  <a:pt x="0" y="0"/>
                </a:moveTo>
                <a:lnTo>
                  <a:pt x="2895" y="0"/>
                </a:lnTo>
                <a:lnTo>
                  <a:pt x="2895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843280" y="8313840"/>
            <a:ext cx="1042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PRIVACY ACT STATEME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395360" y="104760"/>
            <a:ext cx="3854520" cy="412920"/>
          </a:xfrm>
          <a:custGeom>
            <a:avLst/>
            <a:gdLst/>
            <a:ahLst/>
            <a:rect l="l" t="t" r="r" b="b"/>
            <a:pathLst>
              <a:path w="2428" h="260">
                <a:moveTo>
                  <a:pt x="0" y="0"/>
                </a:moveTo>
                <a:lnTo>
                  <a:pt x="2427" y="0"/>
                </a:lnTo>
                <a:lnTo>
                  <a:pt x="2427" y="259"/>
                </a:lnTo>
                <a:lnTo>
                  <a:pt x="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126520" y="128520"/>
            <a:ext cx="2490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UBLIC VOUCHER FOR PURCHASES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270880" y="290520"/>
            <a:ext cx="2202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RVICES OTHER THAN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10080" y="3114720"/>
            <a:ext cx="1069920" cy="13824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5410080" y="31078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277320" y="3094200"/>
            <a:ext cx="210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10080" y="3114720"/>
            <a:ext cx="1069920" cy="13824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5410080" y="31078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201000" y="3094200"/>
            <a:ext cx="210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410080" y="3114720"/>
            <a:ext cx="1069920" cy="13824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410080" y="31078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233760" y="309096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26880" y="7765920"/>
            <a:ext cx="4265640" cy="549360"/>
          </a:xfrm>
          <a:custGeom>
            <a:avLst/>
            <a:gdLst/>
            <a:ahLst/>
            <a:rect l="l" t="t" r="r" b="b"/>
            <a:pathLst>
              <a:path w="2687" h="346">
                <a:moveTo>
                  <a:pt x="0" y="0"/>
                </a:moveTo>
                <a:lnTo>
                  <a:pt x="2686" y="0"/>
                </a:lnTo>
                <a:lnTo>
                  <a:pt x="2686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43080" y="7758000"/>
            <a:ext cx="167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When stated in foreign currency, insert name of currenc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27960" y="7835760"/>
            <a:ext cx="335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If the ability to certify and authority to approve are combined in one person, one signature only is necessary; otherwise 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38400" y="7920000"/>
            <a:ext cx="2019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pproving officer will sign in the space provided, over his official titl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27600" y="7997760"/>
            <a:ext cx="3237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When a voucher is receipted in the name of a company or corporation, the name of the person writing the company 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30480" y="8074080"/>
            <a:ext cx="3396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corporate name, as well as the capacity in which he signs, must appear.  For example: "John Doe Company, per John Smith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45600" y="8151840"/>
            <a:ext cx="1387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ecretary," or "Treasurer," as the case may b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26880" y="104760"/>
            <a:ext cx="1070280" cy="412920"/>
          </a:xfrm>
          <a:custGeom>
            <a:avLst/>
            <a:gdLst/>
            <a:ahLst/>
            <a:rect l="l" t="t" r="r" b="b"/>
            <a:pathLst>
              <a:path w="674" h="260">
                <a:moveTo>
                  <a:pt x="0" y="0"/>
                </a:moveTo>
                <a:lnTo>
                  <a:pt x="673" y="0"/>
                </a:lnTo>
                <a:lnTo>
                  <a:pt x="673" y="259"/>
                </a:lnTo>
                <a:lnTo>
                  <a:pt x="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67120" y="71280"/>
            <a:ext cx="710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tandard Form 103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68200" y="149400"/>
            <a:ext cx="757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Revised October 198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64600" y="225360"/>
            <a:ext cx="897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Department of the Treasur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68920" y="311040"/>
            <a:ext cx="559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 TFM 4-20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70000" y="388800"/>
            <a:ext cx="426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034-12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062000" y="8346960"/>
            <a:ext cx="4597560" cy="274680"/>
          </a:xfrm>
          <a:custGeom>
            <a:avLst/>
            <a:gdLst/>
            <a:ahLst/>
            <a:rect l="l" t="t" r="r" b="b"/>
            <a:pathLst>
              <a:path w="2896" h="173">
                <a:moveTo>
                  <a:pt x="0" y="0"/>
                </a:moveTo>
                <a:lnTo>
                  <a:pt x="2895" y="0"/>
                </a:lnTo>
                <a:lnTo>
                  <a:pt x="2895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966600" y="8381880"/>
            <a:ext cx="3694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The information requested on this form is required under the provisions of 31 U.S.C. 82b and 82c, for the purpose of disbursing Fede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959400" y="8450280"/>
            <a:ext cx="3759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money.  The information requested is to identify the particular creditor and the amounts to be paid. Failure to furnish this information wil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986040" y="8518680"/>
            <a:ext cx="1310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hinder discharge of the payment obligatio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6880" y="3251160"/>
            <a:ext cx="822600" cy="1370160"/>
          </a:xfrm>
          <a:custGeom>
            <a:avLst/>
            <a:gdLst/>
            <a:ahLst/>
            <a:rect l="l" t="t" r="r" b="b"/>
            <a:pathLst>
              <a:path w="518" h="863">
                <a:moveTo>
                  <a:pt x="0" y="0"/>
                </a:moveTo>
                <a:lnTo>
                  <a:pt x="517" y="0"/>
                </a:lnTo>
                <a:lnTo>
                  <a:pt x="517" y="862"/>
                </a:lnTo>
                <a:lnTo>
                  <a:pt x="0" y="8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26880" y="4619520"/>
            <a:ext cx="5085000" cy="138240"/>
          </a:xfrm>
          <a:custGeom>
            <a:avLst/>
            <a:gdLst/>
            <a:ahLst/>
            <a:rect l="l" t="t" r="r" b="b"/>
            <a:pathLst>
              <a:path w="3203" h="87">
                <a:moveTo>
                  <a:pt x="0" y="0"/>
                </a:moveTo>
                <a:lnTo>
                  <a:pt x="3202" y="0"/>
                </a:lnTo>
                <a:lnTo>
                  <a:pt x="3202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15720" y="4611600"/>
            <a:ext cx="1202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(Use continuation sheet(s) if necess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68480" y="1609560"/>
            <a:ext cx="1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1062000" y="1603440"/>
            <a:ext cx="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179960" y="1609560"/>
            <a:ext cx="164880" cy="147960"/>
          </a:xfrm>
          <a:custGeom>
            <a:avLst/>
            <a:gdLst/>
            <a:ahLst/>
            <a:rect l="l" t="t" r="r" b="b"/>
            <a:pathLst>
              <a:path w="104" h="93">
                <a:moveTo>
                  <a:pt x="0" y="0"/>
                </a:moveTo>
                <a:lnTo>
                  <a:pt x="103" y="0"/>
                </a:lnTo>
                <a:lnTo>
                  <a:pt x="103" y="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62000" y="2293920"/>
            <a:ext cx="173160" cy="138240"/>
          </a:xfrm>
          <a:custGeom>
            <a:avLst/>
            <a:gdLst/>
            <a:ahLst/>
            <a:rect l="l" t="t" r="r" b="b"/>
            <a:pathLst>
              <a:path w="109" h="87">
                <a:moveTo>
                  <a:pt x="108" y="86"/>
                </a:move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179960" y="2293920"/>
            <a:ext cx="164880" cy="138240"/>
          </a:xfrm>
          <a:custGeom>
            <a:avLst/>
            <a:gdLst/>
            <a:ahLst/>
            <a:rect l="l" t="t" r="r" b="b"/>
            <a:pathLst>
              <a:path w="104" h="87">
                <a:moveTo>
                  <a:pt x="103" y="0"/>
                </a:moveTo>
                <a:lnTo>
                  <a:pt x="103" y="86"/>
                </a:lnTo>
                <a:lnTo>
                  <a:pt x="0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33360" y="133668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26880" y="1336680"/>
            <a:ext cx="660600" cy="1370160"/>
          </a:xfrm>
          <a:custGeom>
            <a:avLst/>
            <a:gdLst/>
            <a:ahLst/>
            <a:rect l="l" t="t" r="r" b="b"/>
            <a:pathLst>
              <a:path w="416" h="863">
                <a:moveTo>
                  <a:pt x="415" y="862"/>
                </a:moveTo>
                <a:lnTo>
                  <a:pt x="0" y="8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90240" y="1768320"/>
            <a:ext cx="5547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AYEE'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50000" y="1871640"/>
            <a:ext cx="452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83480" y="1973160"/>
            <a:ext cx="373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63960" y="2076480"/>
            <a:ext cx="594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26880" y="2978280"/>
            <a:ext cx="822600" cy="274680"/>
          </a:xfrm>
          <a:custGeom>
            <a:avLst/>
            <a:gdLst/>
            <a:ahLst/>
            <a:rect l="l" t="t" r="r" b="b"/>
            <a:pathLst>
              <a:path w="518" h="173">
                <a:moveTo>
                  <a:pt x="0" y="0"/>
                </a:moveTo>
                <a:lnTo>
                  <a:pt x="517" y="0"/>
                </a:lnTo>
                <a:lnTo>
                  <a:pt x="517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77000" y="2940120"/>
            <a:ext cx="506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360" y="3035160"/>
            <a:ext cx="57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51080" y="3129120"/>
            <a:ext cx="5562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OF 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147680" y="2978280"/>
            <a:ext cx="658800" cy="274680"/>
          </a:xfrm>
          <a:custGeom>
            <a:avLst/>
            <a:gdLst/>
            <a:ahLst/>
            <a:rect l="l" t="t" r="r" b="b"/>
            <a:pathLst>
              <a:path w="415" h="173">
                <a:moveTo>
                  <a:pt x="0" y="0"/>
                </a:moveTo>
                <a:lnTo>
                  <a:pt x="414" y="0"/>
                </a:lnTo>
                <a:lnTo>
                  <a:pt x="414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210680" y="2940120"/>
            <a:ext cx="502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AT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192680" y="3035160"/>
            <a:ext cx="564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150560" y="3129120"/>
            <a:ext cx="624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OR SERV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805040" y="2978280"/>
            <a:ext cx="2376360" cy="274680"/>
          </a:xfrm>
          <a:custGeom>
            <a:avLst/>
            <a:gdLst/>
            <a:ahLst/>
            <a:rect l="l" t="t" r="r" b="b"/>
            <a:pathLst>
              <a:path w="1497" h="173">
                <a:moveTo>
                  <a:pt x="0" y="0"/>
                </a:moveTo>
                <a:lnTo>
                  <a:pt x="1496" y="0"/>
                </a:lnTo>
                <a:lnTo>
                  <a:pt x="1496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439720" y="2932200"/>
            <a:ext cx="1053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RTICLES OR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918440" y="3038400"/>
            <a:ext cx="1786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(Enter description, item number of contract or Federal suppl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066760" y="3132000"/>
            <a:ext cx="1513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schedule, and other information deemed necess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79960" y="2978280"/>
            <a:ext cx="412560" cy="274680"/>
          </a:xfrm>
          <a:custGeom>
            <a:avLst/>
            <a:gdLst/>
            <a:ahLst/>
            <a:rect l="l" t="t" r="r" b="b"/>
            <a:pathLst>
              <a:path w="260" h="173">
                <a:moveTo>
                  <a:pt x="0" y="0"/>
                </a:moveTo>
                <a:lnTo>
                  <a:pt x="259" y="0"/>
                </a:lnTo>
                <a:lnTo>
                  <a:pt x="259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68080" y="2975040"/>
            <a:ext cx="426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QUA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208760" y="3078000"/>
            <a:ext cx="35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91080" y="2978280"/>
            <a:ext cx="820800" cy="137880"/>
          </a:xfrm>
          <a:custGeom>
            <a:avLst/>
            <a:gdLst/>
            <a:ahLst/>
            <a:rect l="l" t="t" r="r" b="b"/>
            <a:pathLst>
              <a:path w="517" h="87">
                <a:moveTo>
                  <a:pt x="0" y="0"/>
                </a:moveTo>
                <a:lnTo>
                  <a:pt x="516" y="0"/>
                </a:lnTo>
                <a:lnTo>
                  <a:pt x="516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694760" y="2957400"/>
            <a:ext cx="60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91080" y="3114720"/>
            <a:ext cx="411120" cy="138240"/>
          </a:xfrm>
          <a:custGeom>
            <a:avLst/>
            <a:gdLst/>
            <a:ahLst/>
            <a:rect l="l" t="t" r="r" b="b"/>
            <a:pathLst>
              <a:path w="259" h="87">
                <a:moveTo>
                  <a:pt x="0" y="0"/>
                </a:moveTo>
                <a:lnTo>
                  <a:pt x="258" y="0"/>
                </a:lnTo>
                <a:lnTo>
                  <a:pt x="258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594320" y="3094200"/>
            <a:ext cx="37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000760" y="3114720"/>
            <a:ext cx="411120" cy="138240"/>
          </a:xfrm>
          <a:custGeom>
            <a:avLst/>
            <a:gdLst/>
            <a:ahLst/>
            <a:rect l="l" t="t" r="r" b="b"/>
            <a:pathLst>
              <a:path w="259" h="87">
                <a:moveTo>
                  <a:pt x="0" y="0"/>
                </a:moveTo>
                <a:lnTo>
                  <a:pt x="258" y="0"/>
                </a:lnTo>
                <a:lnTo>
                  <a:pt x="258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046480" y="3094200"/>
            <a:ext cx="32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410080" y="2978280"/>
            <a:ext cx="1069920" cy="13788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679720" y="2957400"/>
            <a:ext cx="515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26880" y="6261120"/>
            <a:ext cx="6153120" cy="138240"/>
          </a:xfrm>
          <a:custGeom>
            <a:avLst/>
            <a:gdLst/>
            <a:ahLst/>
            <a:rect l="l" t="t" r="r" b="b"/>
            <a:pathLst>
              <a:path w="3876" h="87">
                <a:moveTo>
                  <a:pt x="0" y="0"/>
                </a:moveTo>
                <a:lnTo>
                  <a:pt x="3875" y="0"/>
                </a:lnTo>
                <a:lnTo>
                  <a:pt x="3875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707920" y="6240600"/>
            <a:ext cx="1324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CCOUNTING 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26880" y="7218360"/>
            <a:ext cx="16524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0" y="0"/>
                </a:moveTo>
                <a:lnTo>
                  <a:pt x="103" y="0"/>
                </a:lnTo>
                <a:lnTo>
                  <a:pt x="103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599440" y="8296200"/>
            <a:ext cx="804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NSN 7540-00-900-223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891760" y="8434440"/>
            <a:ext cx="595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USAPPC V1.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32200" y="8280360"/>
            <a:ext cx="783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Previous edition usabl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04560" y="772488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4560" y="780084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04560" y="796284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679560" y="745956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805040" y="3251160"/>
            <a:ext cx="2376360" cy="1370160"/>
          </a:xfrm>
          <a:custGeom>
            <a:avLst/>
            <a:gdLst/>
            <a:ahLst/>
            <a:rect l="l" t="t" r="r" b="b"/>
            <a:pathLst>
              <a:path w="1497" h="863">
                <a:moveTo>
                  <a:pt x="0" y="0"/>
                </a:moveTo>
                <a:lnTo>
                  <a:pt x="1496" y="0"/>
                </a:lnTo>
                <a:lnTo>
                  <a:pt x="1496" y="862"/>
                </a:lnTo>
                <a:lnTo>
                  <a:pt x="0" y="8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591080" y="3251160"/>
            <a:ext cx="411120" cy="1370160"/>
          </a:xfrm>
          <a:custGeom>
            <a:avLst/>
            <a:gdLst/>
            <a:ahLst/>
            <a:rect l="l" t="t" r="r" b="b"/>
            <a:pathLst>
              <a:path w="259" h="863">
                <a:moveTo>
                  <a:pt x="0" y="0"/>
                </a:moveTo>
                <a:lnTo>
                  <a:pt x="258" y="0"/>
                </a:lnTo>
                <a:lnTo>
                  <a:pt x="258" y="862"/>
                </a:lnTo>
                <a:lnTo>
                  <a:pt x="0" y="8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410080" y="3251160"/>
            <a:ext cx="1069920" cy="1370160"/>
          </a:xfrm>
          <a:custGeom>
            <a:avLst/>
            <a:gdLst/>
            <a:ahLst/>
            <a:rect l="l" t="t" r="r" b="b"/>
            <a:pathLst>
              <a:path w="674" h="863">
                <a:moveTo>
                  <a:pt x="0" y="0"/>
                </a:moveTo>
                <a:lnTo>
                  <a:pt x="673" y="0"/>
                </a:lnTo>
                <a:lnTo>
                  <a:pt x="673" y="862"/>
                </a:lnTo>
                <a:lnTo>
                  <a:pt x="0" y="86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26880" y="4756320"/>
            <a:ext cx="882720" cy="958680"/>
          </a:xfrm>
          <a:custGeom>
            <a:avLst/>
            <a:gdLst/>
            <a:ahLst/>
            <a:rect l="l" t="t" r="r" b="b"/>
            <a:pathLst>
              <a:path w="556" h="604">
                <a:moveTo>
                  <a:pt x="0" y="0"/>
                </a:moveTo>
                <a:lnTo>
                  <a:pt x="555" y="0"/>
                </a:lnTo>
                <a:lnTo>
                  <a:pt x="555" y="603"/>
                </a:lnTo>
                <a:lnTo>
                  <a:pt x="0" y="6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2200" y="4745160"/>
            <a:ext cx="571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AYMENT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189320" y="4756320"/>
            <a:ext cx="1222560" cy="274320"/>
          </a:xfrm>
          <a:custGeom>
            <a:avLst/>
            <a:gdLst/>
            <a:ahLst/>
            <a:rect l="l" t="t" r="r" b="b"/>
            <a:pathLst>
              <a:path w="770" h="173">
                <a:moveTo>
                  <a:pt x="0" y="0"/>
                </a:moveTo>
                <a:lnTo>
                  <a:pt x="769" y="0"/>
                </a:lnTo>
                <a:lnTo>
                  <a:pt x="769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225320" y="4788000"/>
            <a:ext cx="687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858560" y="4599000"/>
            <a:ext cx="492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89520" y="4756320"/>
            <a:ext cx="522360" cy="137880"/>
          </a:xfrm>
          <a:custGeom>
            <a:avLst/>
            <a:gdLst/>
            <a:ahLst/>
            <a:rect l="l" t="t" r="r" b="b"/>
            <a:pathLst>
              <a:path w="329" h="87">
                <a:moveTo>
                  <a:pt x="0" y="0"/>
                </a:moveTo>
                <a:lnTo>
                  <a:pt x="328" y="0"/>
                </a:lnTo>
                <a:lnTo>
                  <a:pt x="328" y="86"/>
                </a:lnTo>
                <a:lnTo>
                  <a:pt x="0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189320" y="5440320"/>
            <a:ext cx="2290680" cy="274680"/>
          </a:xfrm>
          <a:custGeom>
            <a:avLst/>
            <a:gdLst/>
            <a:ahLst/>
            <a:rect l="l" t="t" r="r" b="b"/>
            <a:pathLst>
              <a:path w="1443" h="173">
                <a:moveTo>
                  <a:pt x="0" y="0"/>
                </a:moveTo>
                <a:lnTo>
                  <a:pt x="1442" y="0"/>
                </a:lnTo>
                <a:lnTo>
                  <a:pt x="1442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130280" y="5411880"/>
            <a:ext cx="847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Signature or initial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89320" y="5029200"/>
            <a:ext cx="1222560" cy="139680"/>
          </a:xfrm>
          <a:custGeom>
            <a:avLst/>
            <a:gdLst/>
            <a:ahLst/>
            <a:rect l="l" t="t" r="r" b="b"/>
            <a:pathLst>
              <a:path w="770" h="88">
                <a:moveTo>
                  <a:pt x="0" y="0"/>
                </a:moveTo>
                <a:lnTo>
                  <a:pt x="769" y="0"/>
                </a:lnTo>
                <a:lnTo>
                  <a:pt x="769" y="87"/>
                </a:lnTo>
                <a:lnTo>
                  <a:pt x="0" y="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89320" y="5167440"/>
            <a:ext cx="1222560" cy="137880"/>
          </a:xfrm>
          <a:custGeom>
            <a:avLst/>
            <a:gdLst/>
            <a:ahLst/>
            <a:rect l="l" t="t" r="r" b="b"/>
            <a:pathLst>
              <a:path w="770" h="87">
                <a:moveTo>
                  <a:pt x="0" y="0"/>
                </a:moveTo>
                <a:lnTo>
                  <a:pt x="769" y="0"/>
                </a:lnTo>
                <a:lnTo>
                  <a:pt x="769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89320" y="5303880"/>
            <a:ext cx="1222560" cy="138240"/>
          </a:xfrm>
          <a:custGeom>
            <a:avLst/>
            <a:gdLst/>
            <a:ahLst/>
            <a:rect l="l" t="t" r="r" b="b"/>
            <a:pathLst>
              <a:path w="770" h="87">
                <a:moveTo>
                  <a:pt x="0" y="0"/>
                </a:moveTo>
                <a:lnTo>
                  <a:pt x="769" y="0"/>
                </a:lnTo>
                <a:lnTo>
                  <a:pt x="769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179600" y="5275440"/>
            <a:ext cx="1051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mount verified; 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11920" y="485604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OVIS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09760" y="4992840"/>
            <a:ext cx="585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10840" y="5129280"/>
            <a:ext cx="504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10840" y="5265720"/>
            <a:ext cx="407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11920" y="5402160"/>
            <a:ext cx="567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12280" y="5540400"/>
            <a:ext cx="553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D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6880" y="5713560"/>
            <a:ext cx="6153120" cy="549000"/>
          </a:xfrm>
          <a:custGeom>
            <a:avLst/>
            <a:gdLst/>
            <a:ahLst/>
            <a:rect l="l" t="t" r="r" b="b"/>
            <a:pathLst>
              <a:path w="3876" h="346">
                <a:moveTo>
                  <a:pt x="0" y="0"/>
                </a:moveTo>
                <a:lnTo>
                  <a:pt x="3875" y="0"/>
                </a:lnTo>
                <a:lnTo>
                  <a:pt x="3875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63880" y="5676840"/>
            <a:ext cx="3104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ursuant to authority vested in me, I certify that this voucher is correct and proper for paymen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208160" y="4756320"/>
            <a:ext cx="1684440" cy="274320"/>
          </a:xfrm>
          <a:custGeom>
            <a:avLst/>
            <a:gdLst/>
            <a:ahLst/>
            <a:rect l="l" t="t" r="r" b="b"/>
            <a:pathLst>
              <a:path w="1061" h="173">
                <a:moveTo>
                  <a:pt x="0" y="0"/>
                </a:moveTo>
                <a:lnTo>
                  <a:pt x="1060" y="0"/>
                </a:lnTo>
                <a:lnTo>
                  <a:pt x="1060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161720" y="4727520"/>
            <a:ext cx="751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PPROVE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843200" y="4871880"/>
            <a:ext cx="2757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=$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37080" y="4871880"/>
            <a:ext cx="4312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=$1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279080" y="499752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83360" y="6078600"/>
            <a:ext cx="381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Dat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848600" y="6078600"/>
            <a:ext cx="1129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848120" y="6078600"/>
            <a:ext cx="373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997000" y="6083280"/>
            <a:ext cx="213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98600" y="46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2286000" y="475632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381400" y="4594320"/>
            <a:ext cx="187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(Payee must NOT use the space bel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0800" y="4756320"/>
            <a:ext cx="1300320" cy="27432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0"/>
                </a:moveTo>
                <a:lnTo>
                  <a:pt x="818" y="0"/>
                </a:lnTo>
                <a:lnTo>
                  <a:pt x="818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842920" y="4727520"/>
            <a:ext cx="820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XCHANGE R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410080" y="4756320"/>
            <a:ext cx="1069920" cy="13788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410080" y="5029200"/>
            <a:ext cx="1069920" cy="139680"/>
          </a:xfrm>
          <a:custGeom>
            <a:avLst/>
            <a:gdLst/>
            <a:ahLst/>
            <a:rect l="l" t="t" r="r" b="b"/>
            <a:pathLst>
              <a:path w="674" h="88">
                <a:moveTo>
                  <a:pt x="0" y="0"/>
                </a:moveTo>
                <a:lnTo>
                  <a:pt x="673" y="0"/>
                </a:lnTo>
                <a:lnTo>
                  <a:pt x="673" y="87"/>
                </a:lnTo>
                <a:lnTo>
                  <a:pt x="0" y="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10080" y="4892760"/>
            <a:ext cx="1069920" cy="13788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858640" y="4867200"/>
            <a:ext cx="633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$150.0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410080" y="5167440"/>
            <a:ext cx="1069920" cy="13788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208160" y="5029200"/>
            <a:ext cx="2982960" cy="412920"/>
          </a:xfrm>
          <a:custGeom>
            <a:avLst/>
            <a:gdLst/>
            <a:ahLst/>
            <a:rect l="l" t="t" r="r" b="b"/>
            <a:pathLst>
              <a:path w="1879" h="260">
                <a:moveTo>
                  <a:pt x="0" y="0"/>
                </a:moveTo>
                <a:lnTo>
                  <a:pt x="1878" y="0"/>
                </a:lnTo>
                <a:lnTo>
                  <a:pt x="1878" y="259"/>
                </a:lnTo>
                <a:lnTo>
                  <a:pt x="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161000" y="50007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208160" y="5440320"/>
            <a:ext cx="2982960" cy="274680"/>
          </a:xfrm>
          <a:custGeom>
            <a:avLst/>
            <a:gdLst/>
            <a:ahLst/>
            <a:rect l="l" t="t" r="r" b="b"/>
            <a:pathLst>
              <a:path w="1879" h="173">
                <a:moveTo>
                  <a:pt x="0" y="0"/>
                </a:moveTo>
                <a:lnTo>
                  <a:pt x="1878" y="0"/>
                </a:lnTo>
                <a:lnTo>
                  <a:pt x="1878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157760" y="5411880"/>
            <a:ext cx="396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10080" y="5303880"/>
            <a:ext cx="1069920" cy="13824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48200" y="5268960"/>
            <a:ext cx="644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1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0080" y="4619520"/>
            <a:ext cx="1069920" cy="138240"/>
          </a:xfrm>
          <a:custGeom>
            <a:avLst/>
            <a:gdLst/>
            <a:ahLst/>
            <a:rect l="l" t="t" r="r" b="b"/>
            <a:pathLst>
              <a:path w="674" h="87">
                <a:moveTo>
                  <a:pt x="0" y="0"/>
                </a:moveTo>
                <a:lnTo>
                  <a:pt x="673" y="0"/>
                </a:lnTo>
                <a:lnTo>
                  <a:pt x="673" y="86"/>
                </a:ln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826240" y="4592520"/>
            <a:ext cx="644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1,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12920" y="4892760"/>
            <a:ext cx="79200" cy="87120"/>
          </a:xfrm>
          <a:custGeom>
            <a:avLst/>
            <a:gdLst/>
            <a:ahLst/>
            <a:rect l="l" t="t" r="r" b="b"/>
            <a:pathLst>
              <a:path w="50" h="55">
                <a:moveTo>
                  <a:pt x="0" y="0"/>
                </a:moveTo>
                <a:lnTo>
                  <a:pt x="49" y="0"/>
                </a:lnTo>
                <a:lnTo>
                  <a:pt x="49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31200" y="486900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2920" y="5029200"/>
            <a:ext cx="79200" cy="87480"/>
          </a:xfrm>
          <a:custGeom>
            <a:avLst/>
            <a:gdLst/>
            <a:ahLst/>
            <a:rect l="l" t="t" r="r" b="b"/>
            <a:pathLst>
              <a:path w="50" h="55">
                <a:moveTo>
                  <a:pt x="0" y="0"/>
                </a:moveTo>
                <a:lnTo>
                  <a:pt x="49" y="0"/>
                </a:lnTo>
                <a:lnTo>
                  <a:pt x="49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31200" y="500544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12920" y="5167440"/>
            <a:ext cx="79200" cy="85680"/>
          </a:xfrm>
          <a:custGeom>
            <a:avLst/>
            <a:gdLst/>
            <a:ahLst/>
            <a:rect l="l" t="t" r="r" b="b"/>
            <a:pathLst>
              <a:path w="50" h="54">
                <a:moveTo>
                  <a:pt x="0" y="0"/>
                </a:moveTo>
                <a:lnTo>
                  <a:pt x="49" y="0"/>
                </a:lnTo>
                <a:lnTo>
                  <a:pt x="49" y="53"/>
                </a:lnTo>
                <a:lnTo>
                  <a:pt x="0" y="5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12920" y="5303880"/>
            <a:ext cx="79200" cy="87120"/>
          </a:xfrm>
          <a:custGeom>
            <a:avLst/>
            <a:gdLst/>
            <a:ahLst/>
            <a:rect l="l" t="t" r="r" b="b"/>
            <a:pathLst>
              <a:path w="50" h="55">
                <a:moveTo>
                  <a:pt x="0" y="0"/>
                </a:moveTo>
                <a:lnTo>
                  <a:pt x="49" y="0"/>
                </a:lnTo>
                <a:lnTo>
                  <a:pt x="49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31200" y="527832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12920" y="5440320"/>
            <a:ext cx="79200" cy="87480"/>
          </a:xfrm>
          <a:custGeom>
            <a:avLst/>
            <a:gdLst/>
            <a:ahLst/>
            <a:rect l="l" t="t" r="r" b="b"/>
            <a:pathLst>
              <a:path w="50" h="55">
                <a:moveTo>
                  <a:pt x="0" y="0"/>
                </a:moveTo>
                <a:lnTo>
                  <a:pt x="49" y="0"/>
                </a:lnTo>
                <a:lnTo>
                  <a:pt x="49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31200" y="541512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12920" y="5576760"/>
            <a:ext cx="79200" cy="87480"/>
          </a:xfrm>
          <a:custGeom>
            <a:avLst/>
            <a:gdLst/>
            <a:ahLst/>
            <a:rect l="l" t="t" r="r" b="b"/>
            <a:pathLst>
              <a:path w="50" h="55">
                <a:moveTo>
                  <a:pt x="0" y="0"/>
                </a:moveTo>
                <a:lnTo>
                  <a:pt x="49" y="0"/>
                </a:lnTo>
                <a:lnTo>
                  <a:pt x="49" y="54"/>
                </a:lnTo>
                <a:lnTo>
                  <a:pt x="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31200" y="555300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755000" y="3214800"/>
            <a:ext cx="177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er detailed bill herewith attach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750680" y="3386160"/>
            <a:ext cx="2033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d 22 Nov **. Less offset of $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53560" y="3557520"/>
            <a:ext cx="1982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er non-performance notification d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751040" y="3727440"/>
            <a:ext cx="2060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Dec ** for Contr. DABT15-**-F-0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755360" y="4411800"/>
            <a:ext cx="1922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ayment Due Date: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December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416560" y="3114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5410080" y="31078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158120" y="3224160"/>
            <a:ext cx="640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Nov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864040" y="3214800"/>
            <a:ext cx="644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1,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055880" y="1633680"/>
            <a:ext cx="1914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NPERFORMER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054080" y="1744560"/>
            <a:ext cx="1060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90 E. STATE S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054800" y="1855800"/>
            <a:ext cx="1440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LENNVILLE, GA 304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48440" y="1884240"/>
            <a:ext cx="1231560" cy="274680"/>
          </a:xfrm>
          <a:custGeom>
            <a:avLst/>
            <a:gdLst/>
            <a:ahLst/>
            <a:rect l="l" t="t" r="r" b="b"/>
            <a:pathLst>
              <a:path w="776" h="173">
                <a:moveTo>
                  <a:pt x="0" y="0"/>
                </a:moveTo>
                <a:lnTo>
                  <a:pt x="775" y="0"/>
                </a:lnTo>
                <a:lnTo>
                  <a:pt x="775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190480" y="1863720"/>
            <a:ext cx="111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ATE INVOICE 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457600" y="1941480"/>
            <a:ext cx="717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33360" y="27050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6880" y="2705040"/>
            <a:ext cx="2376720" cy="274680"/>
          </a:xfrm>
          <a:custGeom>
            <a:avLst/>
            <a:gdLst/>
            <a:ahLst/>
            <a:rect l="l" t="t" r="r" b="b"/>
            <a:pathLst>
              <a:path w="1497" h="173">
                <a:moveTo>
                  <a:pt x="1496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72160" y="2692440"/>
            <a:ext cx="7272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IPPED F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248440" y="789120"/>
            <a:ext cx="1231560" cy="1096920"/>
          </a:xfrm>
          <a:custGeom>
            <a:avLst/>
            <a:gdLst/>
            <a:ahLst/>
            <a:rect l="l" t="t" r="r" b="b"/>
            <a:pathLst>
              <a:path w="776" h="691">
                <a:moveTo>
                  <a:pt x="0" y="0"/>
                </a:moveTo>
                <a:lnTo>
                  <a:pt x="775" y="0"/>
                </a:lnTo>
                <a:lnTo>
                  <a:pt x="775" y="690"/>
                </a:lnTo>
                <a:lnTo>
                  <a:pt x="0" y="69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193360" y="76824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190840" y="846000"/>
            <a:ext cx="1162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rd 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191200" y="966960"/>
            <a:ext cx="1073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90480" y="107784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A,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190840" y="1419120"/>
            <a:ext cx="784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DSN: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248440" y="2705040"/>
            <a:ext cx="1231560" cy="274680"/>
          </a:xfrm>
          <a:custGeom>
            <a:avLst/>
            <a:gdLst/>
            <a:ahLst/>
            <a:rect l="l" t="t" r="r" b="b"/>
            <a:pathLst>
              <a:path w="776" h="173">
                <a:moveTo>
                  <a:pt x="0" y="0"/>
                </a:moveTo>
                <a:lnTo>
                  <a:pt x="775" y="0"/>
                </a:lnTo>
                <a:lnTo>
                  <a:pt x="775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93000" y="2692440"/>
            <a:ext cx="1198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VERNMENT B/L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248440" y="2157480"/>
            <a:ext cx="1231560" cy="274680"/>
          </a:xfrm>
          <a:custGeom>
            <a:avLst/>
            <a:gdLst/>
            <a:ahLst/>
            <a:rect l="l" t="t" r="r" b="b"/>
            <a:pathLst>
              <a:path w="776" h="173">
                <a:moveTo>
                  <a:pt x="0" y="0"/>
                </a:moveTo>
                <a:lnTo>
                  <a:pt x="775" y="0"/>
                </a:lnTo>
                <a:lnTo>
                  <a:pt x="775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192640" y="2146320"/>
            <a:ext cx="841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458320" y="222408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248440" y="2430360"/>
            <a:ext cx="1231560" cy="276480"/>
          </a:xfrm>
          <a:custGeom>
            <a:avLst/>
            <a:gdLst/>
            <a:ahLst/>
            <a:rect l="l" t="t" r="r" b="b"/>
            <a:pathLst>
              <a:path w="776" h="174">
                <a:moveTo>
                  <a:pt x="0" y="0"/>
                </a:moveTo>
                <a:lnTo>
                  <a:pt x="775" y="0"/>
                </a:lnTo>
                <a:lnTo>
                  <a:pt x="775" y="173"/>
                </a:lnTo>
                <a:lnTo>
                  <a:pt x="0" y="1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94080" y="2419200"/>
            <a:ext cx="1216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AYEE'S ACCOUNT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459400" y="2496960"/>
            <a:ext cx="49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692440" y="2705040"/>
            <a:ext cx="18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2679840" y="2978280"/>
            <a:ext cx="18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628360" y="2692440"/>
            <a:ext cx="283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87760" y="2705040"/>
            <a:ext cx="762120" cy="274680"/>
          </a:xfrm>
          <a:custGeom>
            <a:avLst/>
            <a:gdLst/>
            <a:ahLst/>
            <a:rect l="l" t="t" r="r" b="b"/>
            <a:pathLst>
              <a:path w="480" h="173">
                <a:moveTo>
                  <a:pt x="0" y="0"/>
                </a:moveTo>
                <a:lnTo>
                  <a:pt x="479" y="0"/>
                </a:lnTo>
                <a:lnTo>
                  <a:pt x="479" y="172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31240" y="2692440"/>
            <a:ext cx="48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26880" y="515880"/>
            <a:ext cx="2932200" cy="822240"/>
          </a:xfrm>
          <a:custGeom>
            <a:avLst/>
            <a:gdLst/>
            <a:ahLst/>
            <a:rect l="l" t="t" r="r" b="b"/>
            <a:pathLst>
              <a:path w="1847" h="518">
                <a:moveTo>
                  <a:pt x="0" y="0"/>
                </a:moveTo>
                <a:lnTo>
                  <a:pt x="1846" y="0"/>
                </a:lnTo>
                <a:lnTo>
                  <a:pt x="1846" y="517"/>
                </a:lnTo>
                <a:lnTo>
                  <a:pt x="0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69280" y="495360"/>
            <a:ext cx="2592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U.S. DEPARTMENT, BUREAU, OR ESTABLISHMENT AND LO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70000" y="573120"/>
            <a:ext cx="174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71440" y="693720"/>
            <a:ext cx="1441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67840" y="804960"/>
            <a:ext cx="161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,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57640" y="515880"/>
            <a:ext cx="1992240" cy="274680"/>
          </a:xfrm>
          <a:custGeom>
            <a:avLst/>
            <a:gdLst/>
            <a:ahLst/>
            <a:rect l="l" t="t" r="r" b="b"/>
            <a:pathLst>
              <a:path w="1255" h="173">
                <a:moveTo>
                  <a:pt x="0" y="0"/>
                </a:moveTo>
                <a:lnTo>
                  <a:pt x="1254" y="0"/>
                </a:lnTo>
                <a:lnTo>
                  <a:pt x="1254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201840" y="495360"/>
            <a:ext cx="1182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ATE VOUCHER PREPAR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98240" y="573120"/>
            <a:ext cx="6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2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248440" y="104760"/>
            <a:ext cx="1231560" cy="412920"/>
          </a:xfrm>
          <a:custGeom>
            <a:avLst/>
            <a:gdLst/>
            <a:ahLst/>
            <a:rect l="l" t="t" r="r" b="b"/>
            <a:pathLst>
              <a:path w="776" h="260">
                <a:moveTo>
                  <a:pt x="0" y="0"/>
                </a:moveTo>
                <a:lnTo>
                  <a:pt x="775" y="0"/>
                </a:lnTo>
                <a:lnTo>
                  <a:pt x="775" y="259"/>
                </a:lnTo>
                <a:lnTo>
                  <a:pt x="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193720" y="85680"/>
            <a:ext cx="698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248440" y="515880"/>
            <a:ext cx="1231560" cy="274680"/>
          </a:xfrm>
          <a:custGeom>
            <a:avLst/>
            <a:gdLst/>
            <a:ahLst/>
            <a:rect l="l" t="t" r="r" b="b"/>
            <a:pathLst>
              <a:path w="776" h="173">
                <a:moveTo>
                  <a:pt x="0" y="0"/>
                </a:moveTo>
                <a:lnTo>
                  <a:pt x="775" y="0"/>
                </a:lnTo>
                <a:lnTo>
                  <a:pt x="775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91920" y="495360"/>
            <a:ext cx="730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CHEDULE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257640" y="789120"/>
            <a:ext cx="1992240" cy="276120"/>
          </a:xfrm>
          <a:custGeom>
            <a:avLst/>
            <a:gdLst/>
            <a:ahLst/>
            <a:rect l="l" t="t" r="r" b="b"/>
            <a:pathLst>
              <a:path w="1255" h="174">
                <a:moveTo>
                  <a:pt x="0" y="0"/>
                </a:moveTo>
                <a:lnTo>
                  <a:pt x="1254" y="0"/>
                </a:lnTo>
                <a:lnTo>
                  <a:pt x="1254" y="173"/>
                </a:lnTo>
                <a:lnTo>
                  <a:pt x="0" y="1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202920" y="768240"/>
            <a:ext cx="134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ONTRACT NUMBER 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198600" y="846000"/>
            <a:ext cx="1134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BT15-**-F-09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257640" y="1063800"/>
            <a:ext cx="1992240" cy="274320"/>
          </a:xfrm>
          <a:custGeom>
            <a:avLst/>
            <a:gdLst/>
            <a:ahLst/>
            <a:rect l="l" t="t" r="r" b="b"/>
            <a:pathLst>
              <a:path w="1255" h="173">
                <a:moveTo>
                  <a:pt x="0" y="0"/>
                </a:moveTo>
                <a:lnTo>
                  <a:pt x="1254" y="0"/>
                </a:lnTo>
                <a:lnTo>
                  <a:pt x="1254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202200" y="1042920"/>
            <a:ext cx="1418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EQUISITION NUMBER 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199680" y="1120680"/>
            <a:ext cx="65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C 11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26880" y="6397560"/>
            <a:ext cx="6153120" cy="822240"/>
          </a:xfrm>
          <a:custGeom>
            <a:avLst/>
            <a:gdLst/>
            <a:ahLst/>
            <a:rect l="l" t="t" r="r" b="b"/>
            <a:pathLst>
              <a:path w="3876" h="518">
                <a:moveTo>
                  <a:pt x="0" y="0"/>
                </a:moveTo>
                <a:lnTo>
                  <a:pt x="3875" y="0"/>
                </a:lnTo>
                <a:lnTo>
                  <a:pt x="3875" y="517"/>
                </a:lnTo>
                <a:lnTo>
                  <a:pt x="0" y="5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51640" y="6454800"/>
            <a:ext cx="4659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contract 21*2020 76-9505 111011.00-26CB W91DRM*0100988/UFBA S09076  $1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1280" y="6686640"/>
            <a:ext cx="4631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ld Contract 21*2020 76-9505 111011.00-26CB W91DRM*1110987/UFBA S09076 ($150.0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46640" y="7493040"/>
            <a:ext cx="3033360" cy="274680"/>
          </a:xfrm>
          <a:custGeom>
            <a:avLst/>
            <a:gdLst/>
            <a:ahLst/>
            <a:rect l="l" t="t" r="r" b="b"/>
            <a:pathLst>
              <a:path w="1911" h="173">
                <a:moveTo>
                  <a:pt x="0" y="0"/>
                </a:moveTo>
                <a:lnTo>
                  <a:pt x="1910" y="0"/>
                </a:lnTo>
                <a:lnTo>
                  <a:pt x="1910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388680" y="7472520"/>
            <a:ext cx="4284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96800" y="7218360"/>
            <a:ext cx="14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90680" y="7218360"/>
            <a:ext cx="1479240" cy="276120"/>
          </a:xfrm>
          <a:custGeom>
            <a:avLst/>
            <a:gdLst/>
            <a:ahLst/>
            <a:rect l="l" t="t" r="r" b="b"/>
            <a:pathLst>
              <a:path w="932" h="174">
                <a:moveTo>
                  <a:pt x="931" y="173"/>
                </a:moveTo>
                <a:lnTo>
                  <a:pt x="0" y="1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34520" y="7197840"/>
            <a:ext cx="783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HECK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52760" y="7218360"/>
            <a:ext cx="15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446640" y="7218360"/>
            <a:ext cx="1555560" cy="276120"/>
          </a:xfrm>
          <a:custGeom>
            <a:avLst/>
            <a:gdLst/>
            <a:ahLst/>
            <a:rect l="l" t="t" r="r" b="b"/>
            <a:pathLst>
              <a:path w="980" h="174">
                <a:moveTo>
                  <a:pt x="979" y="173"/>
                </a:moveTo>
                <a:lnTo>
                  <a:pt x="0" y="1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390480" y="7197840"/>
            <a:ext cx="783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HECK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96800" y="7493040"/>
            <a:ext cx="14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90680" y="7493040"/>
            <a:ext cx="1479240" cy="274680"/>
          </a:xfrm>
          <a:custGeom>
            <a:avLst/>
            <a:gdLst/>
            <a:ahLst/>
            <a:rect l="l" t="t" r="r" b="b"/>
            <a:pathLst>
              <a:path w="932" h="173">
                <a:moveTo>
                  <a:pt x="931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34160" y="7462800"/>
            <a:ext cx="384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32360" y="7616880"/>
            <a:ext cx="2592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$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976400" y="7218360"/>
            <a:ext cx="1471680" cy="276120"/>
          </a:xfrm>
          <a:custGeom>
            <a:avLst/>
            <a:gdLst/>
            <a:ahLst/>
            <a:rect l="l" t="t" r="r" b="b"/>
            <a:pathLst>
              <a:path w="927" h="174">
                <a:moveTo>
                  <a:pt x="0" y="0"/>
                </a:moveTo>
                <a:lnTo>
                  <a:pt x="926" y="0"/>
                </a:lnTo>
                <a:lnTo>
                  <a:pt x="926" y="173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911960" y="7197840"/>
            <a:ext cx="1374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ON ACCOUNT OF U.S. TREASU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908000" y="7275600"/>
            <a:ext cx="86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 $1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75200" y="7218360"/>
            <a:ext cx="1504800" cy="276120"/>
          </a:xfrm>
          <a:custGeom>
            <a:avLst/>
            <a:gdLst/>
            <a:ahLst/>
            <a:rect l="l" t="t" r="r" b="b"/>
            <a:pathLst>
              <a:path w="948" h="174">
                <a:moveTo>
                  <a:pt x="0" y="0"/>
                </a:moveTo>
                <a:lnTo>
                  <a:pt x="947" y="0"/>
                </a:lnTo>
                <a:lnTo>
                  <a:pt x="947" y="173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10040" y="7197840"/>
            <a:ext cx="311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053320" y="7197840"/>
            <a:ext cx="657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Name of ban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618880" y="7197840"/>
            <a:ext cx="221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976400" y="7493040"/>
            <a:ext cx="1471680" cy="274680"/>
          </a:xfrm>
          <a:custGeom>
            <a:avLst/>
            <a:gdLst/>
            <a:ahLst/>
            <a:rect l="l" t="t" r="r" b="b"/>
            <a:pathLst>
              <a:path w="927" h="173">
                <a:moveTo>
                  <a:pt x="0" y="0"/>
                </a:moveTo>
                <a:lnTo>
                  <a:pt x="926" y="0"/>
                </a:lnTo>
                <a:lnTo>
                  <a:pt x="926" y="172"/>
                </a:lnTo>
                <a:lnTo>
                  <a:pt x="0" y="1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10520" y="7472520"/>
            <a:ext cx="385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91080" y="7765920"/>
            <a:ext cx="1888920" cy="274680"/>
          </a:xfrm>
          <a:custGeom>
            <a:avLst/>
            <a:gdLst/>
            <a:ahLst/>
            <a:rect l="l" t="t" r="r" b="b"/>
            <a:pathLst>
              <a:path w="1190" h="173">
                <a:moveTo>
                  <a:pt x="0" y="0"/>
                </a:moveTo>
                <a:lnTo>
                  <a:pt x="1189" y="0"/>
                </a:lnTo>
                <a:lnTo>
                  <a:pt x="1189" y="172"/>
                </a:ln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543200" y="7737480"/>
            <a:ext cx="32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591080" y="8039160"/>
            <a:ext cx="1888920" cy="276120"/>
          </a:xfrm>
          <a:custGeom>
            <a:avLst/>
            <a:gdLst/>
            <a:ahLst/>
            <a:rect l="l" t="t" r="r" b="b"/>
            <a:pathLst>
              <a:path w="1190" h="174">
                <a:moveTo>
                  <a:pt x="0" y="0"/>
                </a:moveTo>
                <a:lnTo>
                  <a:pt x="1189" y="0"/>
                </a:lnTo>
                <a:lnTo>
                  <a:pt x="1189" y="173"/>
                </a:lnTo>
                <a:lnTo>
                  <a:pt x="0" y="1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540680" y="8010360"/>
            <a:ext cx="396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484200" y="612468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550520" y="6124680"/>
            <a:ext cx="197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815840" y="5934240"/>
            <a:ext cx="192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AMES R. RICHARDSON, LTC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3687840" y="6124680"/>
            <a:ext cx="271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045680" y="5934240"/>
            <a:ext cx="1367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26880" y="104760"/>
            <a:ext cx="6153120" cy="8210520"/>
          </a:xfrm>
          <a:custGeom>
            <a:avLst/>
            <a:gdLst/>
            <a:ahLst/>
            <a:rect l="l" t="t" r="r" b="b"/>
            <a:pathLst>
              <a:path w="3876" h="5172">
                <a:moveTo>
                  <a:pt x="0" y="0"/>
                </a:moveTo>
                <a:lnTo>
                  <a:pt x="3875" y="0"/>
                </a:lnTo>
                <a:lnTo>
                  <a:pt x="3875" y="5171"/>
                </a:lnTo>
                <a:lnTo>
                  <a:pt x="0" y="517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864320" y="5479920"/>
            <a:ext cx="390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cript"/>
              </a:rPr>
              <a:t>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08960" y="870120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900000" y="5133960"/>
            <a:ext cx="274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8040" y="5114880"/>
            <a:ext cx="225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5" name=""/>
          <p:cNvGraphicFramePr/>
          <p:nvPr/>
        </p:nvGraphicFramePr>
        <p:xfrm>
          <a:off x="0" y="385920"/>
          <a:ext cx="6858000" cy="83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5920"/>
                    <a:ext cx="6858000" cy="83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8" name=""/>
          <p:cNvGraphicFramePr/>
          <p:nvPr/>
        </p:nvGraphicFramePr>
        <p:xfrm>
          <a:off x="860400" y="2641680"/>
          <a:ext cx="5735520" cy="70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2641680"/>
                    <a:ext cx="573552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-77760" y="112680"/>
          <a:ext cx="6997680" cy="905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7760" y="112680"/>
                    <a:ext cx="6997680" cy="905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"/>
          <p:cNvSpPr/>
          <p:nvPr/>
        </p:nvSpPr>
        <p:spPr>
          <a:xfrm>
            <a:off x="214920" y="755640"/>
            <a:ext cx="1256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BT15-**-C-07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557600" y="75564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396040" y="679320"/>
            <a:ext cx="76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C 07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51600" y="969840"/>
            <a:ext cx="2719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ND PROCUREMENT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121280" y="996840"/>
            <a:ext cx="204444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572000" y="1057320"/>
            <a:ext cx="1374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738080" y="175752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498760" y="1859040"/>
            <a:ext cx="84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DG 1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861080" y="1859040"/>
            <a:ext cx="469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928840" y="1859040"/>
            <a:ext cx="70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AUG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38080" y="2519280"/>
            <a:ext cx="74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. M. B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022640" y="2519280"/>
            <a:ext cx="667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26-86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14200" y="312912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14200" y="328140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14200" y="343368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14200" y="366228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14200" y="381492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14200" y="396720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14200" y="411948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14200" y="427212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477960" y="314172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465360" y="345924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452760" y="392904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439800" y="410688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7200" y="428472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109680" y="312912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109320" y="3281400"/>
            <a:ext cx="34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109680" y="347184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109680" y="363708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109320" y="3814920"/>
            <a:ext cx="34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185640" y="396720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109320" y="4119480"/>
            <a:ext cx="34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109320" y="4272120"/>
            <a:ext cx="34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233400" y="3129120"/>
            <a:ext cx="34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310080" y="389088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310080" y="411948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233400" y="4272120"/>
            <a:ext cx="34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699880" y="5186520"/>
            <a:ext cx="57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205640" y="5948280"/>
            <a:ext cx="1836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TSON CONSTRUCTION 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. O. BOX 111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CHMOND HILL, GA 313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176000" y="602460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. A. WATS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E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235040" y="6634080"/>
            <a:ext cx="1243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SHAWN A. WATS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928120" y="6634080"/>
            <a:ext cx="666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87640" y="7610400"/>
            <a:ext cx="153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, PUBLIC WORKS (DP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DG, 100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 STEWART, GA 313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449880" y="7620120"/>
            <a:ext cx="1574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776200" y="738180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440" y="8082000"/>
            <a:ext cx="1173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. M. BYER, GS-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92160" y="8082000"/>
            <a:ext cx="719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I. M. B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547240" y="8158320"/>
            <a:ext cx="633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7 JUL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62560" y="7015320"/>
            <a:ext cx="198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7025 76-9505 192131.13-257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91DPW*01550724/ZKJD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94360" y="7015320"/>
            <a:ext cx="43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345400" y="7015320"/>
            <a:ext cx="821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40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185280" y="889956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4" name=""/>
          <p:cNvGraphicFramePr/>
          <p:nvPr/>
        </p:nvGraphicFramePr>
        <p:xfrm>
          <a:off x="0" y="369720"/>
          <a:ext cx="6858000" cy="840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9720"/>
                    <a:ext cx="6858000" cy="840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6" name=""/>
          <p:cNvGraphicFramePr/>
          <p:nvPr/>
        </p:nvGraphicFramePr>
        <p:xfrm>
          <a:off x="0" y="46080"/>
          <a:ext cx="6919920" cy="909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80"/>
                    <a:ext cx="6919920" cy="909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8" name=""/>
          <p:cNvSpPr/>
          <p:nvPr/>
        </p:nvSpPr>
        <p:spPr>
          <a:xfrm>
            <a:off x="446040" y="806400"/>
            <a:ext cx="1950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261600" y="843120"/>
            <a:ext cx="690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SEP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60880" y="1109520"/>
            <a:ext cx="1155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BT15-**-C-07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261240" y="1386000"/>
            <a:ext cx="71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 07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242680" y="1224000"/>
            <a:ext cx="1135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,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664280" y="2028960"/>
            <a:ext cx="2017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SON CONSTRUCTION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. O. BOX 11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HILL, GA 313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395680" y="2138400"/>
            <a:ext cx="626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SEP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394960" y="2443320"/>
            <a:ext cx="57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405760" y="2709720"/>
            <a:ext cx="510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360" y="3510000"/>
            <a:ext cx="50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47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204920" y="3510000"/>
            <a:ext cx="67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 AUG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807200" y="3510000"/>
            <a:ext cx="212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attached invoices dated 31 Aug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flecting 50% comple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545800" y="3510000"/>
            <a:ext cx="821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0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811160" y="4576680"/>
            <a:ext cx="173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yment Due D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15 Sep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469480" y="4805280"/>
            <a:ext cx="821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0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47760" y="56102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245120" y="5100480"/>
            <a:ext cx="2025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ss retained %               $2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469480" y="5491080"/>
            <a:ext cx="821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8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090760" y="5643720"/>
            <a:ext cx="36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661760" y="6176880"/>
            <a:ext cx="2004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MES R. RICHARDSON, LTC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289760" y="6176880"/>
            <a:ext cx="142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05440" y="6786720"/>
            <a:ext cx="4590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7025 76-9505  192131.13-257H W91DPW*01550724/ZKJD  S09076   $18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88200" y="7548480"/>
            <a:ext cx="1094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$18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109320" y="883620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3740040" y="3359160"/>
            <a:ext cx="2197080" cy="2919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196000" y="233280"/>
            <a:ext cx="2053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IFICATE OF 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71760" y="614520"/>
            <a:ext cx="187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ECTOR OF PUBLIC 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TN: BLDG, 100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 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795480" y="461880"/>
            <a:ext cx="1725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47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ILLED: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 AUGUST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BT15-**-C-07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70320" y="2138400"/>
            <a:ext cx="519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 OF SERVICES           ESTIMATED COST          PERCENTAGE OF COMPLE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OVATE QUARTERS 500-600         $400,000.00                                      5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20440" y="2671920"/>
            <a:ext cx="4014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OUNT CLAIMED FOR PERIOD 1-31 AUGUST ** = $400,000.00   X  5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22960" y="3052800"/>
            <a:ext cx="2311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SS RETAINED PERCENTAGE @ 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935600" y="2658960"/>
            <a:ext cx="984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  $20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935600" y="2976480"/>
            <a:ext cx="984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    $ 2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97960" y="3433680"/>
            <a:ext cx="821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8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796200" y="3433680"/>
            <a:ext cx="967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AMOUN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60960" y="3890880"/>
            <a:ext cx="5625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ING CLASSIFICATION: 21*7025 76-9505 192131.00-257H W91DPW*01550724/ZKJD 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NDOR:  WATSON CONSTRUCTION 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.O. BOX 11123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Shawn A. Wats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CHMOND HILL, GA 31324                          S. A. WATSON, FORE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1400" y="4870440"/>
            <a:ext cx="5558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RTIFICATION: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CERTIFY THAT THE SERVICES LISTED ON THIS INVOICE ARE AN ACCU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ESENTATION OF SERVICES PERFORM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 ACCEPTED 31 AUGUST **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252680" y="5415120"/>
            <a:ext cx="1318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E.J. DAV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 J. DAV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R, PUBLIC 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63680" y="5568840"/>
            <a:ext cx="19684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900000" y="5643720"/>
            <a:ext cx="1374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SEP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87360" y="1301760"/>
            <a:ext cx="196848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47360" y="145260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DP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SEP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03300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1" name=""/>
          <p:cNvGraphicFramePr/>
          <p:nvPr/>
        </p:nvGraphicFramePr>
        <p:xfrm>
          <a:off x="-77760" y="46080"/>
          <a:ext cx="6997680" cy="905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7760" y="46080"/>
                    <a:ext cx="6997680" cy="905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3" name=""/>
          <p:cNvSpPr/>
          <p:nvPr/>
        </p:nvSpPr>
        <p:spPr>
          <a:xfrm>
            <a:off x="289080" y="1338120"/>
            <a:ext cx="1231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BT15-**-M-5234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185280" y="1376280"/>
            <a:ext cx="678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 JA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099320" y="1376280"/>
            <a:ext cx="71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 01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89520" y="180828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3760" y="1644480"/>
            <a:ext cx="2726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, CONTRACTING AND PROCUR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91st MECH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359160" y="1530360"/>
            <a:ext cx="2273400" cy="749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833640" y="1643040"/>
            <a:ext cx="1374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 JA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25840" y="2355840"/>
            <a:ext cx="18183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DINO MICROFILMS 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.O. BOX 42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VER, CO 802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57600" y="2290680"/>
            <a:ext cx="1063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 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405680" y="2595600"/>
            <a:ext cx="1005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-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404600" y="2900520"/>
            <a:ext cx="874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41000" y="3103560"/>
            <a:ext cx="1664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LIBR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DG, 2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033360" y="3129120"/>
            <a:ext cx="1737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23680" y="3967200"/>
            <a:ext cx="25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78280" y="4653000"/>
            <a:ext cx="4479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*2020 76-9505  117096.Z0-26EB W91DPC*00165234/SQWB  S09076  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75040" y="5491080"/>
            <a:ext cx="6225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1           NEW YORK TIMES MICROFICHE **    12 issues                     1              YR      $1000.00             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870120" y="5721480"/>
            <a:ext cx="3111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86240" y="5719680"/>
            <a:ext cx="3247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CONTINUATION SH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vanced payment is authorized for periodicals and oth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cription items. Contractor will be paid upon submis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proper invoice. Invoice must state (1) start and end da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 orders  will be placed in effect upon receipt of pay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823320" y="6634080"/>
            <a:ext cx="1909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DUE DATE: 10 FEB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23520" y="7091280"/>
            <a:ext cx="1059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N. SULLIVA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916080" y="6872400"/>
            <a:ext cx="1092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Denna N.Sulliv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774760" y="686268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76560" y="7396200"/>
            <a:ext cx="36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774760" y="7650000"/>
            <a:ext cx="693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10160" y="8093160"/>
            <a:ext cx="1993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 R. RICHARDSON, LTC, FC 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023360" y="7701120"/>
            <a:ext cx="113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185280" y="876456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795280" y="2328840"/>
            <a:ext cx="239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519120" y="309600"/>
            <a:ext cx="1705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DINO MICROFILMS IN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.O. BOX 42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NVER COLORADO 802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415320" y="309600"/>
            <a:ext cx="11826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96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 JANUAR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BT15-**-M-52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43160" y="1604880"/>
            <a:ext cx="178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ILL 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483000" y="1757520"/>
            <a:ext cx="217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ders will be placed in effect fo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addressee upon receipt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19840" y="2519280"/>
            <a:ext cx="256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IOD OF SUBSCRIPTION: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 **- FEB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817200" y="3052800"/>
            <a:ext cx="47473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CRIPTION                                      DELIVERY SCHEDULE                   TOTAL C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 YORK TIMES Microfiche **                    12 ISSUES                                 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 DUE THIS BILL: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92280" y="2978280"/>
            <a:ext cx="48639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00200" y="3276720"/>
            <a:ext cx="48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819520" y="2986200"/>
            <a:ext cx="0" cy="13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00200" y="4343400"/>
            <a:ext cx="48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419720" y="2986200"/>
            <a:ext cx="0" cy="13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00200" y="3505320"/>
            <a:ext cx="48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00200" y="3733920"/>
            <a:ext cx="48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00200" y="3962520"/>
            <a:ext cx="48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00200" y="4152960"/>
            <a:ext cx="48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06440" y="254160"/>
            <a:ext cx="5740200" cy="5206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7360" y="6178680"/>
            <a:ext cx="2502000" cy="825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027080" y="6291360"/>
            <a:ext cx="1374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 JA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07880" y="888840"/>
            <a:ext cx="246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2908440" y="268200"/>
            <a:ext cx="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109320" y="8759880"/>
            <a:ext cx="309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48760" y="318960"/>
            <a:ext cx="6325200" cy="8471880"/>
            <a:chOff x="248760" y="318960"/>
            <a:chExt cx="6325200" cy="8471880"/>
          </a:xfrm>
        </p:grpSpPr>
        <p:sp>
          <p:nvSpPr>
            <p:cNvPr id="49" name=""/>
            <p:cNvSpPr/>
            <p:nvPr/>
          </p:nvSpPr>
          <p:spPr>
            <a:xfrm>
              <a:off x="258840" y="318960"/>
              <a:ext cx="4462560" cy="33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90960" y="328680"/>
              <a:ext cx="256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RDER FOR SUPPLIES OR 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4480" y="45576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75280" y="490680"/>
              <a:ext cx="184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Contractor must submit four copies of invoice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9920" y="45576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8840" y="2233440"/>
              <a:ext cx="4146480" cy="80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9360" y="2225520"/>
              <a:ext cx="523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CONTRACT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9200" y="8388360"/>
              <a:ext cx="79056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41520" y="8396280"/>
              <a:ext cx="622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9. DATE RECEIV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0800" y="8464680"/>
              <a:ext cx="9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34760" y="8464680"/>
              <a:ext cx="38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YYMMMDD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34000" y="318960"/>
              <a:ext cx="1028520" cy="33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32076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7760" y="328680"/>
              <a:ext cx="439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54960" y="422280"/>
              <a:ext cx="639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18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47400" y="515880"/>
              <a:ext cx="663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Expires Dec 31, 199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840" y="7292880"/>
              <a:ext cx="2950920" cy="67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6840" y="7284960"/>
              <a:ext cx="1238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6. QUANTITY IN COLUMN 20 HAS BEE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2000" y="3738600"/>
              <a:ext cx="550404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360" y="3738600"/>
              <a:ext cx="4168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his delivery order is issued on another Government agency or in accordance with and subject to terms and conditions of above numbered contract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4800" y="1276200"/>
              <a:ext cx="86652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33160" y="1268280"/>
              <a:ext cx="599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OF ORD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4600" y="1336680"/>
              <a:ext cx="39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YYMMMDD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8840" y="5378400"/>
              <a:ext cx="568080" cy="14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9880" y="5378400"/>
              <a:ext cx="3181320" cy="14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3800" y="5378400"/>
              <a:ext cx="558720" cy="14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5480" y="5378400"/>
              <a:ext cx="234720" cy="14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53160" y="5378400"/>
              <a:ext cx="892080" cy="14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57840" y="5378400"/>
              <a:ext cx="808200" cy="149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57840" y="5105520"/>
              <a:ext cx="80820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72600" y="50896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66840" y="5173560"/>
              <a:ext cx="515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53240" y="3054240"/>
              <a:ext cx="712800" cy="67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200" y="3139920"/>
              <a:ext cx="334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RK AL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27760" y="3233880"/>
              <a:ext cx="51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ACKAGES 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9440" y="3328920"/>
              <a:ext cx="445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APERS WIT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2880" y="34225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CONTRACT 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27040" y="3508200"/>
              <a:ext cx="528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RDER NUMB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18600" y="7834320"/>
              <a:ext cx="762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8840" y="3738600"/>
              <a:ext cx="6307200" cy="80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8840" y="3054240"/>
              <a:ext cx="2789280" cy="67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9360" y="3046320"/>
              <a:ext cx="36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SHIP T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8840" y="662040"/>
              <a:ext cx="6307200" cy="60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4480" y="669960"/>
              <a:ext cx="5027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1 hour per response, including the time for reviewing instructions, searching  existing data sources,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480" y="763560"/>
              <a:ext cx="501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thering and maintaining the data needed, and completing and reviewing the collection of information.  Send comments regarding this burden estimate or any other aspect of thi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760" y="849240"/>
              <a:ext cx="502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llection of information, including suggestions for reducing this burden, to Department of Defense, Washington Headquarters Services, Directorate for Information Operations 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4480" y="934920"/>
              <a:ext cx="514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eports, 1215 Jefferson Davis Highway, Suite 1204, Arlington, VA 22202-4302, and to the Office of Management and Budget, Paperwork Reduction Project (0704-0187), Washington,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0040" y="102060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66200" y="995400"/>
              <a:ext cx="48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EAS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0880" y="995400"/>
              <a:ext cx="44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DO N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64400" y="995400"/>
              <a:ext cx="325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TURN YOUR FORM TO EITHER OF THESE ADDRESS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680" y="1096920"/>
              <a:ext cx="497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ND YOUR COMPLETED FORM TO THE PROCUREMENT OFFICIAL IDENTIFIED IN ITEM 6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840" y="1550880"/>
              <a:ext cx="2789280" cy="6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1160" y="1541520"/>
              <a:ext cx="413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SSUED B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69360" y="1541520"/>
              <a:ext cx="18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0720" y="1550880"/>
              <a:ext cx="2701800" cy="6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81960" y="1541520"/>
              <a:ext cx="65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ADMINISTERED B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9280" y="1541520"/>
              <a:ext cx="456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6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69840" y="1541520"/>
              <a:ext cx="18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75480" y="1687680"/>
              <a:ext cx="7905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6360" y="1679400"/>
              <a:ext cx="538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DELIVERY FO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37920" y="181620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37560" y="1952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32360" y="2054160"/>
              <a:ext cx="46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See Schedule i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32360" y="2122560"/>
              <a:ext cx="16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ther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69360" y="2225520"/>
              <a:ext cx="18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0400" y="222552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ACILITY 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120" y="2576520"/>
              <a:ext cx="343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AME 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4200" y="2644920"/>
              <a:ext cx="31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75480" y="2233440"/>
              <a:ext cx="790560" cy="535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70440" y="2208240"/>
              <a:ext cx="709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MARK IF BUSIN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2240" y="2268360"/>
              <a:ext cx="98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3000" y="2371680"/>
              <a:ext cx="20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MAL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2280" y="2482920"/>
              <a:ext cx="44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MALL DISAD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3000" y="25416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ANTAG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1200" y="264492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WOMEN-OW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69360" y="3054240"/>
              <a:ext cx="18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60720" y="3054240"/>
              <a:ext cx="2779560" cy="67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80160" y="3046320"/>
              <a:ext cx="994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PAYMENT WILL BE MADE B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8840" y="3738600"/>
              <a:ext cx="226800" cy="39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080" y="373860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520" y="382428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5720" y="391788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760" y="401148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600" y="3738600"/>
              <a:ext cx="3888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2000" y="3738600"/>
              <a:ext cx="31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600" y="3875040"/>
              <a:ext cx="38880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7520" y="3943440"/>
              <a:ext cx="35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RCHAS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87560" y="3868560"/>
              <a:ext cx="498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55520" y="3868560"/>
              <a:ext cx="557280" cy="138240"/>
            </a:xfrm>
            <a:custGeom>
              <a:avLst/>
              <a:gdLst/>
              <a:ahLst/>
              <a:rect l="l" t="t" r="r" b="b"/>
              <a:pathLst>
                <a:path w="351" h="87">
                  <a:moveTo>
                    <a:pt x="350" y="86"/>
                  </a:moveTo>
                  <a:lnTo>
                    <a:pt x="0" y="8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3240" y="3875040"/>
              <a:ext cx="435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eference you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57640" y="3875040"/>
              <a:ext cx="15084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8080" y="3875040"/>
              <a:ext cx="1096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urnish the following on terms specifi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55520" y="4005360"/>
              <a:ext cx="5518440" cy="137880"/>
            </a:xfrm>
            <a:custGeom>
              <a:avLst/>
              <a:gdLst/>
              <a:ahLst/>
              <a:rect l="l" t="t" r="r" b="b"/>
              <a:pathLst>
                <a:path w="3476" h="87">
                  <a:moveTo>
                    <a:pt x="0" y="0"/>
                  </a:moveTo>
                  <a:lnTo>
                    <a:pt x="3475" y="0"/>
                  </a:lnTo>
                  <a:lnTo>
                    <a:pt x="3475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55520" y="39826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85040" y="3978360"/>
              <a:ext cx="47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CCEPTANCE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77160" y="3978360"/>
              <a:ext cx="4671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HE CONTRACTOR HEREBY ACCEPTS THE OFFER REPRESENTED BY THE NUMBERED PURCHASE ORDER AS IT MAY PREVIOUSLY HAVE BEEN OR I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02680" y="4046400"/>
              <a:ext cx="2954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NOW MODIFIED, SUBJECT TO ALL OF THE TERMS AND CONDITIONS SET FORTH, AND AGREES TO PERFORM THE SAME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840" y="4148280"/>
              <a:ext cx="6307200" cy="39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880" y="4422600"/>
              <a:ext cx="2670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f this box is marked, supplier must sign Acceptance and return the following number of copies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39600" y="4278240"/>
              <a:ext cx="147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920" y="4251240"/>
              <a:ext cx="762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AME OF CONTRACT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5560" y="4251240"/>
              <a:ext cx="374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8400" y="4251240"/>
              <a:ext cx="762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 AND T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5360" y="4251240"/>
              <a:ext cx="435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SIGN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319640"/>
              <a:ext cx="326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YYMMDD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3800" y="5105520"/>
              <a:ext cx="55872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28760" y="5097600"/>
              <a:ext cx="432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 QUANTIT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840" y="6883560"/>
              <a:ext cx="1985760" cy="39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360" y="6908760"/>
              <a:ext cx="1590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*  If quantity accepted by the Government is same a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920" y="6977160"/>
              <a:ext cx="152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quantity ordered, indicate by X.  If different, ent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2160" y="7047000"/>
              <a:ext cx="161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actual quantity accepted below quantity ordered 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8280" y="7115040"/>
              <a:ext cx="38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encircle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57560" y="6883560"/>
              <a:ext cx="2950920" cy="39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5200" y="6865920"/>
              <a:ext cx="1031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4. UNITED STATES OF AMERIC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9720" y="7122960"/>
              <a:ext cx="1037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Y:                       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1440" y="6883560"/>
              <a:ext cx="5238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32240" y="6883560"/>
              <a:ext cx="31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5. TOT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21440" y="7020000"/>
              <a:ext cx="52380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34400" y="70120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34040" y="7165800"/>
              <a:ext cx="366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IFFEREN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01960" y="7165800"/>
              <a:ext cx="8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21440" y="7292880"/>
              <a:ext cx="52380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34400" y="727704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2240" y="7439040"/>
              <a:ext cx="31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ITIAL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57840" y="7292880"/>
              <a:ext cx="808200" cy="12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7840" y="7431120"/>
              <a:ext cx="8082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1640" y="7421400"/>
              <a:ext cx="366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SPECT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39840" y="7421400"/>
              <a:ext cx="32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ECEIV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48600" y="7396200"/>
              <a:ext cx="1164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CCEPTED, AND CONFORMS TO TH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50400" y="7464600"/>
              <a:ext cx="9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NTRACT EXCEPT AS NOTE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12760" y="7834320"/>
              <a:ext cx="204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9680" y="7807320"/>
              <a:ext cx="171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7840" y="7807320"/>
              <a:ext cx="198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ORIZED GOVERNMENT REPRESENTATIV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2720" y="7292880"/>
              <a:ext cx="780840" cy="5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33520" y="7284960"/>
              <a:ext cx="425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7. SHIP. 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75440" y="7567560"/>
              <a:ext cx="26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37080" y="7704000"/>
              <a:ext cx="18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22720" y="7840800"/>
              <a:ext cx="780840" cy="5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4960" y="78328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1. PAYME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74720" y="797724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PLE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7080" y="8113680"/>
              <a:ext cx="26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75080" y="8251920"/>
              <a:ext cx="18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8840" y="7977240"/>
              <a:ext cx="2950920" cy="39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9640" y="7969320"/>
              <a:ext cx="1648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6. I certify this account is correct and proper for payment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18600" y="8244000"/>
              <a:ext cx="762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112760" y="8244000"/>
              <a:ext cx="204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9680" y="8217000"/>
              <a:ext cx="171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72240" y="8217000"/>
              <a:ext cx="1535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AND TITLE OF CERTIFYING OFFIC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1160" y="8653320"/>
              <a:ext cx="1285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D FORM 1155, APR 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23120" y="8669160"/>
              <a:ext cx="1084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10160" y="7115040"/>
              <a:ext cx="1132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NTRACTING/ORDERING OFFIC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54120" y="8661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3800" y="5105520"/>
              <a:ext cx="55872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9440" y="5268960"/>
              <a:ext cx="37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CCEPTED*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8840" y="5105520"/>
              <a:ext cx="56808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1520" y="50896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200" y="5173560"/>
              <a:ext cx="37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TEM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9880" y="5105520"/>
              <a:ext cx="318132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4640" y="50896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6280" y="5173560"/>
              <a:ext cx="1870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CHEDULE OF SUPPLIES/SERV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5480" y="5105520"/>
              <a:ext cx="23472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10520" y="50896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10520" y="5173560"/>
              <a:ext cx="150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3160" y="5105520"/>
              <a:ext cx="89208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75840" y="50896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1520" y="5173560"/>
              <a:ext cx="528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33800" y="5105520"/>
              <a:ext cx="55872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8720" y="5183280"/>
              <a:ext cx="33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RDERED/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06840" y="2874960"/>
              <a:ext cx="3024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6840" y="2874960"/>
              <a:ext cx="30240" cy="3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06840" y="2438280"/>
              <a:ext cx="3024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06840" y="2438280"/>
              <a:ext cx="30240" cy="3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9120" y="2874960"/>
              <a:ext cx="2988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9120" y="2874960"/>
              <a:ext cx="29880" cy="3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9120" y="2438280"/>
              <a:ext cx="29880" cy="30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9120" y="2438280"/>
              <a:ext cx="29880" cy="3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69840" y="3046320"/>
              <a:ext cx="18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0080" y="708012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. M.  By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57840" y="6883560"/>
              <a:ext cx="8082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57840" y="7020000"/>
              <a:ext cx="8082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520" y="7431120"/>
              <a:ext cx="13320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2000" y="7431120"/>
              <a:ext cx="13176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01720" y="7431120"/>
              <a:ext cx="13356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273120" y="7543800"/>
              <a:ext cx="685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98680" y="7567560"/>
              <a:ext cx="13356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70400" y="7704000"/>
              <a:ext cx="12384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98680" y="7977240"/>
              <a:ext cx="13356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70400" y="8113680"/>
              <a:ext cx="12384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98680" y="8250120"/>
              <a:ext cx="133560" cy="12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16520" y="7292880"/>
              <a:ext cx="119196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5960" y="7284960"/>
              <a:ext cx="709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8. D.O. VOUCHER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6520" y="7567560"/>
              <a:ext cx="1191960" cy="80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8480" y="7567560"/>
              <a:ext cx="360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2. PAID B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1440" y="7567560"/>
              <a:ext cx="134460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9000" y="7559640"/>
              <a:ext cx="1186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3. AMOUNT VERIFIED CORRECT F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1440" y="7840800"/>
              <a:ext cx="1344600" cy="26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34760" y="7832880"/>
              <a:ext cx="623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4. CHECK NUMB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21440" y="8113680"/>
              <a:ext cx="1344600" cy="26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30080" y="8105760"/>
              <a:ext cx="735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5. BILL OF LADING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221440" y="8388360"/>
            <a:ext cx="13446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2600" y="8379000"/>
            <a:ext cx="683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2. S/R VOUCHER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9880" y="8388360"/>
            <a:ext cx="15667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4640" y="8396280"/>
            <a:ext cx="537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8. RECEIVED B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31640" y="8396280"/>
            <a:ext cx="192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(Print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16520" y="8388360"/>
            <a:ext cx="119196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7400" y="8379000"/>
            <a:ext cx="842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1. S/R ACCOUNT 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57840" y="7156440"/>
            <a:ext cx="80820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8840" y="8388360"/>
            <a:ext cx="5680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0440" y="8396280"/>
            <a:ext cx="534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8. RECEIVED A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22720" y="8388360"/>
            <a:ext cx="78084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32440" y="8396280"/>
            <a:ext cx="752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0. TOTAL CONTAINER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9200" y="8388360"/>
            <a:ext cx="79056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7920" y="2508120"/>
            <a:ext cx="134460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38080" y="2498760"/>
            <a:ext cx="683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2. DISCOUNT TERM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40240" y="2575080"/>
            <a:ext cx="36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7920" y="2781360"/>
            <a:ext cx="21481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36640" y="2773440"/>
            <a:ext cx="689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3. MAIL INVOICES 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39160" y="2849400"/>
            <a:ext cx="65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19200" y="3054240"/>
            <a:ext cx="6289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160" y="3182760"/>
            <a:ext cx="136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 O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0800" y="3294000"/>
            <a:ext cx="188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TN: TRANSPORTATION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8640" y="3413160"/>
            <a:ext cx="140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8000" y="3182760"/>
            <a:ext cx="126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3400" y="3294000"/>
            <a:ext cx="1538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80520" y="3413160"/>
            <a:ext cx="140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38600"/>
            <a:ext cx="14940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3875040"/>
            <a:ext cx="1494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43040" y="3868560"/>
            <a:ext cx="3382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4520" y="4421160"/>
            <a:ext cx="133200" cy="1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18960" y="4278240"/>
            <a:ext cx="147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50880" y="4278240"/>
            <a:ext cx="220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587560" y="4278240"/>
            <a:ext cx="924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840" y="4559400"/>
            <a:ext cx="63072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6120" y="4549680"/>
            <a:ext cx="18007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7. ACCOUNTING AND APPROPRIATION DATA/LOCAL U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7560" y="4626000"/>
            <a:ext cx="2984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RGIA SALES TAX EXEMPTION CERTIFICATE 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8440" y="536112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8440" y="618156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86320" y="5403960"/>
            <a:ext cx="29617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 OF AGREEMENT: The supplier shall furni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tems if and when requested by the contracting officer or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presentatives listed in paragraph 6 on page 2, for an in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eriod of tim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0320" y="6181560"/>
            <a:ext cx="300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TENT OF OBLIGATION: The government will be obligat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87760" y="6318360"/>
            <a:ext cx="311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der this agreement to the extent of authorized calls placed agai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88840" y="6456240"/>
            <a:ext cx="26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blanket purchase agreement by persons named herei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53160" y="3054240"/>
            <a:ext cx="9871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75480" y="318960"/>
            <a:ext cx="790560" cy="33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360" y="303120"/>
            <a:ext cx="340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GE 1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49160" y="4381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8840" y="1276200"/>
            <a:ext cx="150804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8640" y="1268280"/>
            <a:ext cx="10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 CONTRACT/PURCH ORDER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9360" y="1344600"/>
            <a:ext cx="97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BT15-**-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79480" y="1276200"/>
            <a:ext cx="143028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00720" y="1268280"/>
            <a:ext cx="768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 DELIVERY ORDER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02200" y="1276200"/>
            <a:ext cx="166032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0480" y="1268280"/>
            <a:ext cx="1194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 REQUISITION/PURCH REQUEST NO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080" y="1344600"/>
            <a:ext cx="47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C 63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5480" y="1276200"/>
            <a:ext cx="79056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360" y="1268280"/>
            <a:ext cx="375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PRIORIT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19200" y="1550880"/>
            <a:ext cx="6289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80" y="1644480"/>
            <a:ext cx="223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, CONTRACTING AND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0080" y="1763640"/>
            <a:ext cx="85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8640" y="1874880"/>
            <a:ext cx="140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53160" y="1550880"/>
            <a:ext cx="9093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53240" y="1824120"/>
            <a:ext cx="1317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3240" y="1960560"/>
            <a:ext cx="1317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8640" y="19512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19200" y="2233440"/>
            <a:ext cx="6289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7640" y="2395440"/>
            <a:ext cx="145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S NEEDED SUPPLIES R 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7280" y="2516040"/>
            <a:ext cx="109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1 SOUTH 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7640" y="2627280"/>
            <a:ext cx="145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ICHMOND HILL, GA 313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78200" y="2233440"/>
            <a:ext cx="6271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7920" y="2233440"/>
            <a:ext cx="134460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35200" y="2225520"/>
            <a:ext cx="957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. DELIVER TO FOB POINT B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56160" y="2225520"/>
            <a:ext cx="177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(Dat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40240" y="2293920"/>
            <a:ext cx="326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(YYMMDD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3240" y="2370240"/>
            <a:ext cx="131760" cy="1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53240" y="2508120"/>
            <a:ext cx="1317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3240" y="2644920"/>
            <a:ext cx="1317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22720" y="1276200"/>
            <a:ext cx="86652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31880" y="1395360"/>
            <a:ext cx="46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CT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840" y="318960"/>
            <a:ext cx="6307200" cy="832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36520" y="688644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I.M. B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1523880"/>
            <a:ext cx="1905120" cy="685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OCT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85640" y="882972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1760" y="3884760"/>
            <a:ext cx="239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14360" y="1760400"/>
            <a:ext cx="239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2160" y="5797440"/>
            <a:ext cx="17398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66920" y="5987880"/>
            <a:ext cx="1024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1 PG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385920"/>
          <a:ext cx="6858000" cy="83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5920"/>
                    <a:ext cx="6858000" cy="83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73160" y="8707320"/>
            <a:ext cx="458136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53080" y="8688240"/>
            <a:ext cx="803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Univers (W1)"/>
              </a:rPr>
              <a:t>PRIVACY ACT STATEME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06520" y="468360"/>
            <a:ext cx="383688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41000" y="509760"/>
            <a:ext cx="224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 (W1)"/>
              </a:rPr>
              <a:t>PUBLIC VOUCHER FOR PURCHASES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00480" y="671400"/>
            <a:ext cx="192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 (W1)"/>
              </a:rPr>
              <a:t>SERVICES OTHER THAN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3320" y="347040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0"/>
                </a:moveTo>
                <a:lnTo>
                  <a:pt x="672" y="0"/>
                </a:lnTo>
                <a:lnTo>
                  <a:pt x="672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57960" y="3467160"/>
            <a:ext cx="2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13320" y="347040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0"/>
                </a:moveTo>
                <a:lnTo>
                  <a:pt x="672" y="0"/>
                </a:lnTo>
                <a:lnTo>
                  <a:pt x="672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82000" y="3467160"/>
            <a:ext cx="2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3320" y="3470400"/>
            <a:ext cx="1068480" cy="13788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0"/>
                </a:moveTo>
                <a:lnTo>
                  <a:pt x="672" y="0"/>
                </a:lnTo>
                <a:lnTo>
                  <a:pt x="672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10800" y="347508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8040" y="8126280"/>
            <a:ext cx="4248360" cy="5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6360" y="8132760"/>
            <a:ext cx="1731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When stated in foreign currency, insert name of currency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200" y="8210520"/>
            <a:ext cx="3690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If the ability to certify and authority to approve are combined in one person, one signature only is necessary; otherwise 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20" y="8296200"/>
            <a:ext cx="2077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approving officer will sign in the space provided, over his official titl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5880" y="8372520"/>
            <a:ext cx="356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When a voucher is receipted in the name of a company or corporation, the name of the person writing the company 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680" y="8450280"/>
            <a:ext cx="3687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corporate name, as well as the capacity in which he signs, must appear.  For example: "John Doe Company, per John Smith,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4800" y="8526600"/>
            <a:ext cx="1389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Secretary," or "Treasurer," as the case may b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8040" y="468360"/>
            <a:ext cx="105588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7800" y="449280"/>
            <a:ext cx="613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Standard Form 103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1040" y="527040"/>
            <a:ext cx="655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Revised October 198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200" y="603360"/>
            <a:ext cx="838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Department of the Treasur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9840" y="689040"/>
            <a:ext cx="401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1 TFM 4-20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6600" y="766800"/>
            <a:ext cx="277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1034-12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73160" y="8707320"/>
            <a:ext cx="458136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3640" y="8756640"/>
            <a:ext cx="4065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The information requested on this form is required under the provisions of 31 U.S.C. 82b and 82c, for the purpose of disbursing Fede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1400" y="8825040"/>
            <a:ext cx="4140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money.  The information requested is to identify the particular creditor and the amounts to be paid. Failure to furnish this information wil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71280" y="8893080"/>
            <a:ext cx="1325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hinder discharge of the payment obligatio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8040" y="3613320"/>
            <a:ext cx="80820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8040" y="4981680"/>
            <a:ext cx="50691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1120" y="4987800"/>
            <a:ext cx="1175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(Use continuation sheet(s) if necess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066680" y="19443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83200" y="1967040"/>
            <a:ext cx="163440" cy="145800"/>
          </a:xfrm>
          <a:custGeom>
            <a:avLst/>
            <a:gdLst/>
            <a:ahLst/>
            <a:rect l="l" t="t" r="r" b="b"/>
            <a:pathLst>
              <a:path w="103" h="92">
                <a:moveTo>
                  <a:pt x="0" y="0"/>
                </a:moveTo>
                <a:lnTo>
                  <a:pt x="102" y="0"/>
                </a:lnTo>
                <a:lnTo>
                  <a:pt x="102" y="9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2651040"/>
            <a:ext cx="171720" cy="138240"/>
          </a:xfrm>
          <a:custGeom>
            <a:avLst/>
            <a:gdLst/>
            <a:ahLst/>
            <a:rect l="l" t="t" r="r" b="b"/>
            <a:pathLst>
              <a:path w="108" h="87">
                <a:moveTo>
                  <a:pt x="107" y="86"/>
                </a:moveTo>
                <a:lnTo>
                  <a:pt x="0" y="8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83200" y="2651040"/>
            <a:ext cx="163440" cy="138240"/>
          </a:xfrm>
          <a:custGeom>
            <a:avLst/>
            <a:gdLst/>
            <a:ahLst/>
            <a:rect l="l" t="t" r="r" b="b"/>
            <a:pathLst>
              <a:path w="103" h="87">
                <a:moveTo>
                  <a:pt x="102" y="0"/>
                </a:moveTo>
                <a:lnTo>
                  <a:pt x="102" y="86"/>
                </a:lnTo>
                <a:lnTo>
                  <a:pt x="0" y="8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3600" y="1693800"/>
            <a:ext cx="600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1920" y="1693800"/>
            <a:ext cx="658800" cy="1368360"/>
          </a:xfrm>
          <a:custGeom>
            <a:avLst/>
            <a:gdLst/>
            <a:ahLst/>
            <a:rect l="l" t="t" r="r" b="b"/>
            <a:pathLst>
              <a:path w="415" h="862">
                <a:moveTo>
                  <a:pt x="414" y="861"/>
                </a:moveTo>
                <a:lnTo>
                  <a:pt x="0" y="8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9240" y="2141640"/>
            <a:ext cx="34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PAYEE'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5320" y="2244600"/>
            <a:ext cx="26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NA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2680" y="2347920"/>
            <a:ext cx="19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4680" y="244944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ADD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8040" y="3340080"/>
            <a:ext cx="8082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0520" y="332280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1360" y="3416400"/>
            <a:ext cx="37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5320" y="351000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F 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58840" y="3340080"/>
            <a:ext cx="6444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7440" y="332280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94920" y="341640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ELIVE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44160" y="3510000"/>
            <a:ext cx="42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R SERV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16200" y="3340080"/>
            <a:ext cx="2360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47000" y="33130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RTICLES OR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34640" y="3416400"/>
            <a:ext cx="173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Univers (W1)"/>
              </a:rPr>
              <a:t>(Enter description, item number of contract or Federal suppl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79720" y="3510000"/>
            <a:ext cx="1471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Univers (W1)"/>
              </a:rPr>
              <a:t>schedule, and other information deemed necess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89320" y="3340080"/>
            <a:ext cx="3970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48000" y="3355920"/>
            <a:ext cx="24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QUAN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98400" y="3459240"/>
            <a:ext cx="15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99000" y="3340080"/>
            <a:ext cx="80820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78640" y="333864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UNIT P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99000" y="3476520"/>
            <a:ext cx="3967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74960" y="3476520"/>
            <a:ext cx="19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O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8680" y="3476520"/>
            <a:ext cx="3985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28920" y="3476520"/>
            <a:ext cx="13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9800" y="334008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60360" y="333864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MOU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8040" y="6622920"/>
            <a:ext cx="613584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02240" y="6621480"/>
            <a:ext cx="111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CCOUNTING CLASSIF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8040" y="7580160"/>
            <a:ext cx="1494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5880" y="8672400"/>
            <a:ext cx="689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NSN 7540-00-900-223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67000" y="8809200"/>
            <a:ext cx="423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USAPPC V1.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5320" y="8655120"/>
            <a:ext cx="701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Previous edition usabl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4480" y="810720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4480" y="818352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4480" y="834696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58040" y="784224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6200" y="3613320"/>
            <a:ext cx="236052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99000" y="3613320"/>
            <a:ext cx="39672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9800" y="3613320"/>
            <a:ext cx="105408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8040" y="5118120"/>
            <a:ext cx="866880" cy="9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5080" y="5126040"/>
            <a:ext cx="36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YMENT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97240" y="5118120"/>
            <a:ext cx="120996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16760" y="516888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IFFEREN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0720" y="4971960"/>
            <a:ext cx="285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1)"/>
              </a:rPr>
              <a:t>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8880" y="5118120"/>
            <a:ext cx="50832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7240" y="5802480"/>
            <a:ext cx="227664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87880" y="5792760"/>
            <a:ext cx="71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Signature or initial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97240" y="5391000"/>
            <a:ext cx="12099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7240" y="5527800"/>
            <a:ext cx="1209960" cy="1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7240" y="5665680"/>
            <a:ext cx="120996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7960" y="5654520"/>
            <a:ext cx="992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mount verified; 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9040" y="523728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ROVIS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7240" y="5373720"/>
            <a:ext cx="39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OMPLE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3360" y="551016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RT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8680" y="5646600"/>
            <a:ext cx="21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FI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5800" y="5783400"/>
            <a:ext cx="38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ROGR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4800" y="5919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DV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8040" y="6075360"/>
            <a:ext cx="6135840" cy="5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800" y="6056280"/>
            <a:ext cx="343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ursuant to authority vested in me, I certify that this voucher is correct and proper for paymen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7520" y="5118120"/>
            <a:ext cx="167004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48480" y="5108400"/>
            <a:ext cx="55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APPROVED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21320" y="5245200"/>
            <a:ext cx="10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=$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05120" y="5245200"/>
            <a:ext cx="27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(W1)"/>
              </a:rPr>
              <a:t>=$1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57560" y="538020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2920" y="6459480"/>
            <a:ext cx="20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Dat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2600" y="6459480"/>
            <a:ext cx="1005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Authorized Certifying Offic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0920" y="6459480"/>
            <a:ext cx="18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75480" y="6465960"/>
            <a:ext cx="37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G Times (W1)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27400" y="4975200"/>
            <a:ext cx="2163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276640" y="5111640"/>
            <a:ext cx="226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28840" y="4970520"/>
            <a:ext cx="195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(W1)"/>
              </a:rPr>
              <a:t>(Payee must NOT use the space bel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00520" y="5118120"/>
            <a:ext cx="12841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44080" y="510840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EXCHANGE R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9800" y="511812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9800" y="539100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9800" y="525456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19800" y="5527800"/>
            <a:ext cx="1054080" cy="12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7520" y="5391000"/>
            <a:ext cx="296712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47760" y="5381640"/>
            <a:ext cx="93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5802480"/>
            <a:ext cx="29671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48840" y="5792760"/>
            <a:ext cx="194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9800" y="566568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9800" y="4981680"/>
            <a:ext cx="1054080" cy="12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3720" y="525456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2200" y="52452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3720" y="539100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200" y="538164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23720" y="552780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2200" y="551808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3720" y="5665680"/>
            <a:ext cx="63720" cy="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3720" y="5802480"/>
            <a:ext cx="63720" cy="7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2200" y="579132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3720" y="5938920"/>
            <a:ext cx="63720" cy="7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2200" y="592776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Univers (W1)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61400" y="3602160"/>
            <a:ext cx="233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Blanket Purchase  Agreement per attach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06400" y="3773520"/>
            <a:ext cx="213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Invoices and calls for the month of Jul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45000" y="3470400"/>
            <a:ext cx="830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413320" y="34477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65320" y="3611520"/>
            <a:ext cx="59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1-31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51640" y="2021040"/>
            <a:ext cx="1430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AS NEEDED SUPPLIES R 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32920" y="2131920"/>
            <a:ext cx="109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1001 SOUTH 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23560" y="2243160"/>
            <a:ext cx="148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RICHMOND HILL, GA 313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6360" y="224640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93440" y="2244600"/>
            <a:ext cx="889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 INVOICE 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55880" y="2328840"/>
            <a:ext cx="61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SEE BE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3600" y="3060720"/>
            <a:ext cx="2317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1920" y="3060720"/>
            <a:ext cx="2376360" cy="274680"/>
          </a:xfrm>
          <a:custGeom>
            <a:avLst/>
            <a:gdLst/>
            <a:ahLst/>
            <a:rect l="l" t="t" r="r" b="b"/>
            <a:pathLst>
              <a:path w="1497" h="173">
                <a:moveTo>
                  <a:pt x="1496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3160" y="3075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SHIPPED F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56360" y="1152360"/>
            <a:ext cx="1217520" cy="10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75440" y="115092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Univers (W1)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69680" y="1235160"/>
            <a:ext cx="989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90200" y="1355760"/>
            <a:ext cx="85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FORT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3840" y="1467000"/>
            <a:ext cx="51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440" y="2030400"/>
            <a:ext cx="63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ADSN: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6360" y="306720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79760" y="3075120"/>
            <a:ext cx="1001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GOVERNMENT B/L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6360" y="2519280"/>
            <a:ext cx="121752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76520" y="2527200"/>
            <a:ext cx="65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75760" y="2611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56360" y="279396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88040" y="2800440"/>
            <a:ext cx="1006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YEE'S ACCOUNT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03120" y="2884320"/>
            <a:ext cx="32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111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20880" y="3060720"/>
            <a:ext cx="1770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669760" y="3333600"/>
            <a:ext cx="1871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09360" y="307512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97480" y="3067200"/>
            <a:ext cx="7459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14040" y="3075120"/>
            <a:ext cx="29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WEIGH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8040" y="879480"/>
            <a:ext cx="2916360" cy="8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120" y="878040"/>
            <a:ext cx="2346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U.S. DEPARTMENT, BUREAU, OR ESTABLISHMENT AND LO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961920"/>
            <a:ext cx="151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DEPARTMENT OF THE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2160" y="1081080"/>
            <a:ext cx="1244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3520" y="1192320"/>
            <a:ext cx="1398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67000" y="879480"/>
            <a:ext cx="197640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01920" y="878040"/>
            <a:ext cx="963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 VOUCHER PREPAR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06600" y="96192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31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56360" y="468360"/>
            <a:ext cx="121752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74360" y="468360"/>
            <a:ext cx="51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56360" y="879480"/>
            <a:ext cx="121752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5080" y="878040"/>
            <a:ext cx="54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SCHEDULE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67000" y="1152360"/>
            <a:ext cx="197640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99040" y="115092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ONTRACT NUMBER 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66640" y="1235160"/>
            <a:ext cx="99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DABT15-**-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67000" y="1425600"/>
            <a:ext cx="1976400" cy="2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91120" y="1424160"/>
            <a:ext cx="1221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REQUISITION NUMBER AN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67000" y="150804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PRC 63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8040" y="6759720"/>
            <a:ext cx="6135840" cy="80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8080" y="6730920"/>
            <a:ext cx="385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97X4930.AC27 76-9505  W91INF*00170773 APC-9SF1 S09076 $986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56000" y="7853400"/>
            <a:ext cx="30178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81560" y="7851600"/>
            <a:ext cx="22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5600" y="7574040"/>
            <a:ext cx="1420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3560" y="7574040"/>
            <a:ext cx="1479600" cy="274680"/>
          </a:xfrm>
          <a:custGeom>
            <a:avLst/>
            <a:gdLst/>
            <a:ahLst/>
            <a:rect l="l" t="t" r="r" b="b"/>
            <a:pathLst>
              <a:path w="932" h="173">
                <a:moveTo>
                  <a:pt x="931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4520" y="7578720"/>
            <a:ext cx="58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HECK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81560" y="7574040"/>
            <a:ext cx="1495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49520" y="7574040"/>
            <a:ext cx="1554120" cy="274680"/>
          </a:xfrm>
          <a:custGeom>
            <a:avLst/>
            <a:gdLst/>
            <a:ahLst/>
            <a:rect l="l" t="t" r="r" b="b"/>
            <a:pathLst>
              <a:path w="979" h="173">
                <a:moveTo>
                  <a:pt x="978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79040" y="7578720"/>
            <a:ext cx="58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HECK NUM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5600" y="7846920"/>
            <a:ext cx="1420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560" y="7846920"/>
            <a:ext cx="1479600" cy="274680"/>
          </a:xfrm>
          <a:custGeom>
            <a:avLst/>
            <a:gdLst/>
            <a:ahLst/>
            <a:rect l="l" t="t" r="r" b="b"/>
            <a:pathLst>
              <a:path w="932" h="173">
                <a:moveTo>
                  <a:pt x="931" y="172"/>
                </a:moveTo>
                <a:lnTo>
                  <a:pt x="0" y="17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0200" y="7843680"/>
            <a:ext cx="19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1920" y="7997760"/>
            <a:ext cx="84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$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6120" y="7580160"/>
            <a:ext cx="145728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7360" y="7578720"/>
            <a:ext cx="1164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N ACCOUNT OF U.S. TREASU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65600" y="766296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FOR $986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83120" y="7580160"/>
            <a:ext cx="149076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85640" y="7578720"/>
            <a:ext cx="13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10560" y="757872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1)"/>
              </a:rPr>
              <a:t>(Name of bank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98080" y="7578720"/>
            <a:ext cx="4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6120" y="7853400"/>
            <a:ext cx="1457280" cy="26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98360" y="785160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99000" y="8126280"/>
            <a:ext cx="1874880" cy="26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24200" y="8116920"/>
            <a:ext cx="13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99000" y="8399520"/>
            <a:ext cx="1874880" cy="26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30320" y="8389800"/>
            <a:ext cx="194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Univers (W1)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74480" y="6478560"/>
            <a:ext cx="10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542600" y="6478560"/>
            <a:ext cx="200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80120" y="6321600"/>
            <a:ext cx="164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JAMES R RICHARDSON, LTC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3678120" y="6478560"/>
            <a:ext cx="274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37080" y="6321600"/>
            <a:ext cx="117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G Times (W1)"/>
              </a:rPr>
              <a:t>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8040" y="468360"/>
            <a:ext cx="6135840" cy="819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48720" y="3954600"/>
            <a:ext cx="48020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L    INVOICE      DATE          DATE IN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V’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67       19256           17 JUL**      22 JUL *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$ 420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568       19266           19 JUL**      23 JUL **                                                               $ 56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58200" y="4932360"/>
            <a:ext cx="58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 986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48480" y="5618160"/>
            <a:ext cx="58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 986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78160" y="5834160"/>
            <a:ext cx="359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2320" y="4013280"/>
            <a:ext cx="2374920" cy="64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03440" y="402588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82880" y="402588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22640" y="403056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57040" y="895032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41400" y="4299120"/>
            <a:ext cx="2336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760" y="5600880"/>
            <a:ext cx="225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73160" y="195264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2160" y="6788160"/>
            <a:ext cx="17398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67280" y="69850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 NEEDED SUPPLIES R 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1 SOUTH STREE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HMOND HILL, GEORGIA 313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50840" y="1515960"/>
            <a:ext cx="2315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NTRACT NUMBER: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ABT15-**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6520" y="1897200"/>
            <a:ext cx="5244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            ACCOUNT NUMBER                DATE  BILLED                                   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9040" y="419040"/>
            <a:ext cx="6019920" cy="8382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5360" y="213372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242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5440" y="2125800"/>
            <a:ext cx="5120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256                                    11111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7 JULY *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5360" y="18288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57160" y="2762280"/>
            <a:ext cx="194328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76680" y="2762280"/>
            <a:ext cx="194292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83800" y="2811600"/>
            <a:ext cx="1585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 O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PORTATION DI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06560" y="2811600"/>
            <a:ext cx="185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20200" y="2430360"/>
            <a:ext cx="611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HIP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34800" y="2430360"/>
            <a:ext cx="61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LL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2960" y="3954600"/>
            <a:ext cx="2023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SPECIAL INSTRUCTIONS :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BILLING PERIOD: 1-31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ORDER:  3073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11080" y="4944960"/>
            <a:ext cx="475344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Q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UTS AND BOLTS, 1”         6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.0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2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RBURETOR M-60-4         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.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4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E-RODS, 19 ** SEDAN      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2.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18.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55240" y="5935680"/>
            <a:ext cx="1138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:      $420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97560" y="5943600"/>
            <a:ext cx="48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8240" y="6483240"/>
            <a:ext cx="1739880" cy="749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26720" y="6595920"/>
            <a:ext cx="1353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JUL 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40840" y="6540480"/>
            <a:ext cx="307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certify the goods or ser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reon have been received and accept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certify funds are available and chargeable to appropriat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7X4930.AC27 76 W91INF*00170773 APC 9SF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19Jul**                   /S/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              I. M.  CARR, GOVT REP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7440" y="7916760"/>
            <a:ext cx="177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L NUMBER: 0567  17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BT15-**-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57040" y="883620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25840" y="8007480"/>
            <a:ext cx="17398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90960" y="82040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14440" y="812880"/>
            <a:ext cx="5829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 NEEDED SUPPLIES R 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1 SOUTH STREE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HMOND HILL, GEORGIA 313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50840" y="1515960"/>
            <a:ext cx="2315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NTRACT NUMBER: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ABT15-**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" y="1897200"/>
            <a:ext cx="515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            ACCOUNT NUMBER                DATE  BILLED                                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040" y="419040"/>
            <a:ext cx="6019920" cy="8382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5360" y="213372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7652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5440" y="2125800"/>
            <a:ext cx="5120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256                                    111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7 JULY *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360" y="18288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57160" y="2762280"/>
            <a:ext cx="194328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676680" y="2762280"/>
            <a:ext cx="194292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83800" y="2811600"/>
            <a:ext cx="1585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 O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PORTATION DI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06560" y="2811600"/>
            <a:ext cx="185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20200" y="2430360"/>
            <a:ext cx="611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HIP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34800" y="2430360"/>
            <a:ext cx="61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LL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2960" y="3954600"/>
            <a:ext cx="2023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SPECIAL INSTRUCTIONS :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BILLING PERIOD: 1-31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ORDER:  3073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11080" y="4944960"/>
            <a:ext cx="475344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Q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UTS AND BOLTS, 1”         6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.0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2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RBURETOR M-60-4         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.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4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3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E-RODS, 19 ** SEDAN       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2.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18.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54880" y="5935680"/>
            <a:ext cx="1167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:      $ 420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97560" y="5943600"/>
            <a:ext cx="48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8240" y="6483240"/>
            <a:ext cx="1739880" cy="749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026720" y="6595920"/>
            <a:ext cx="1353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JUL 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7440" y="7916760"/>
            <a:ext cx="177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L NUMBER: 0567  17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BT15-**-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7040" y="883620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25840" y="8083440"/>
            <a:ext cx="17398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0960" y="8280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14440" y="812880"/>
            <a:ext cx="5829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 NEEDED SUPPLIES R 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1 SOUTH STREE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HMOND HILL, GEORGIA 313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50840" y="1515960"/>
            <a:ext cx="2315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NTRACT NUMBER: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ABT15-**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6880" y="1897200"/>
            <a:ext cx="5186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ICE NUMBER            ACCOUNT NUMBER                DATE  BILLED                                 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9040" y="419040"/>
            <a:ext cx="6019920" cy="8382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5360" y="213372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7652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242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186696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5440" y="2125800"/>
            <a:ext cx="5120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266                                    111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 JULY *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5360" y="18288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57160" y="2762280"/>
            <a:ext cx="194328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676680" y="2762280"/>
            <a:ext cx="194292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83800" y="2811600"/>
            <a:ext cx="1585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 O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PORTATION DI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06560" y="2811600"/>
            <a:ext cx="185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20200" y="2430360"/>
            <a:ext cx="611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HIP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34800" y="2430360"/>
            <a:ext cx="617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LL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2960" y="3954600"/>
            <a:ext cx="2023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SPECIAL INSTRUCTIONS :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BILLING PERIOD: 1-31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ORDER:  3073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11080" y="4944960"/>
            <a:ext cx="43693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Q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XLE-REAR, 2 1/2 TON        14            23.5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$ 329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XLE-FRONT, 2 1/2 TON      12            19.75                       $ 2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       $ 56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7560" y="5905440"/>
            <a:ext cx="48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8240" y="6483240"/>
            <a:ext cx="1739880" cy="749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026720" y="6595920"/>
            <a:ext cx="1353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 JUL 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55040" y="6545160"/>
            <a:ext cx="307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certify the goods or ser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reon have been received and accept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certify funds are available and chargeable to appropr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7X4930.AC27 76 W91INF*00170773 APC 9SF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19Jul**                   /S/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E              I. M.  CARR, GOVT REP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7800" y="7916760"/>
            <a:ext cx="1743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LL NUMBER: 0568 19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BT15-**-A-71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33360" y="8840880"/>
            <a:ext cx="24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02160" y="8159760"/>
            <a:ext cx="1739880" cy="596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67280" y="83566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5:56:36Z</dcterms:created>
  <dc:creator>SFC BYER</dc:creator>
  <dc:description/>
  <dc:language>en-US</dc:language>
  <cp:lastModifiedBy>Administrator</cp:lastModifiedBy>
  <cp:lastPrinted>2000-07-14T19:21:58Z</cp:lastPrinted>
  <dcterms:modified xsi:type="dcterms:W3CDTF">2004-09-16T18:46:18Z</dcterms:modified>
  <cp:revision>9</cp:revision>
  <dc:subject/>
  <dc:title>HANDOUT 701(PART1to pg19)</dc:title>
</cp:coreProperties>
</file>